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A37-C978-424A-87A1-2614021D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F27-C571-46E2-8976-4CF176CA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903-AE6A-4EF1-A00B-7A6313D2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257-3E47-41C1-9541-8F690BF7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23F8-6590-4A98-9978-962CFAF1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F8AE-3BD9-48CF-A2A3-C809FCCF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3F6E-1926-4F1B-8A89-E2EEBF58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C236-750D-49DE-BEF3-8841F9D7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BA26-4EB8-4D5E-9AFD-6C3A06A9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C397-21D0-44CA-B757-1AE6E55A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CC13-9102-462A-8944-6A78F584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26A-9250-4CD4-A2DE-AD60FC85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11D3-C88C-4FE4-B808-E224642C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67DF-BED6-4743-BD8A-3CFC5A16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5E95-D5AC-4D72-AF11-5C0B1FDD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5A2F-50C7-4CD6-B35E-53266B37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E62F-F855-4535-901D-552F67D6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614-1D3B-466B-981F-3E9B0459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158-CE95-4143-BD45-C6B3EEA8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581-2467-40CB-98DE-BD7C70F8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27A-E1E3-4138-A9EA-514395C3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416-87FB-4DB4-A0CC-7EED658B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5B9-8131-4AE2-9F68-E1E2E8E2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37C-E52C-42B3-A11F-437E8220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29DC-F73C-4825-9CC4-999E729C34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1B15-AAF2-450C-99E3-8E8743B5AE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Lesson</a:t>
            </a:r>
            <a:br>
              <a:rPr sz="5400"/>
            </a:b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2.2 and 2.3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ffffff"/>
                </a:solidFill>
                <a:latin typeface="Tahoma"/>
              </a:rPr>
              <a:t>(pages 16-23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# um    =   5 cm x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1 x 10</a:t>
            </a:r>
            <a:r>
              <a:rPr b="0" lang="en-CA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2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x  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1 u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1 cm       1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-6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 5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2. For every METRIC conversion use the following steps: U = I x CF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dentify the U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Identify the I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8a500"/>
                </a:solidFill>
                <a:latin typeface="Tahoma"/>
              </a:rPr>
              <a:t>Identify all the CF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Sol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ccff"/>
                </a:solidFill>
                <a:latin typeface="Tahoma"/>
              </a:rPr>
              <a:t>For every metric conversion you must first </a:t>
            </a:r>
            <a:r>
              <a:rPr b="1" lang="en-CA" sz="2400" spc="-1" strike="noStrike" u="sng">
                <a:solidFill>
                  <a:srgbClr val="ccccff"/>
                </a:solidFill>
                <a:uFillTx/>
                <a:latin typeface="Tahoma"/>
              </a:rPr>
              <a:t>convert into the base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In the CF,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prefix will always get the “1”</a:t>
            </a: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 and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base will always get the exponential equivalent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66"/>
                </a:solidFill>
                <a:latin typeface="Tahoma"/>
              </a:rPr>
              <a:t>When you have a question that requires more than one CF… make a pla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4920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et out your data booklet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1480" y="5335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1640" y="2209680"/>
            <a:ext cx="228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 Un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3716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37160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1304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54720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5410080"/>
            <a:ext cx="119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32767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9112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51055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2004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426708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52578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295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200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4648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53341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486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495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352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219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pages 19-21 for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Convert 9.4 nm into me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2 and 2.3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base uni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metric prefi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create CF by comparing base units to a 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solve simple (1 CF) and complex (2 or more CF) metric conversion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9.4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EFIXES in the ques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require the use of 2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ways convert to the base unit fir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x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x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6.32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F’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60 se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       1 min        60 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1: Convert the numerator firs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2: Convert the denominator secon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123720" y="160020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028840" y="1676520"/>
            <a:ext cx="1523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 m/s = 55.0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x10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m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1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60 min     60 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5. 3 m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743200" y="33526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343400" y="37339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743200" y="380952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791320" y="32763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67280" y="37339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391520" y="3200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3581280"/>
            <a:ext cx="83808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048120"/>
            <a:ext cx="838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Key Vocabulary Wor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s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con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quant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Metric Prefixe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5800" y="990720"/>
            <a:ext cx="7772400" cy="56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952880" y="6858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79272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ss of Earth = 5.9742 ×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24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kilograms (kg) = 5.9742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Gig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66688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spend 1/3 of our life sleeping, that is 27.37 years, 8.6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seconds or 8.63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egaseconds (863 M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ome more uses of metric pre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724280"/>
            <a:ext cx="6019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Sloth’s top speed is 5 m/min = 0.3 km/hr or 5000 mm/min, or 83 mm/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8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028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2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International System of Unit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is the modern form of the metric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ccff66"/>
                </a:solidFill>
                <a:latin typeface="Tahoma"/>
              </a:rPr>
              <a:t>devised around the convenience of the number ten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world's most widely used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Base units: a basic unit of measurement, all other units are multiples of the bas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c66"/>
                </a:solidFill>
                <a:latin typeface="Tahoma"/>
              </a:rPr>
              <a:t>The base units are: Meter-m, gram-g (kg is the actual SI unit… but in Chemistry we use the gram), second- s, mole- mol, litre- L, tonne-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Prefixes are multiples of base units (see SWB for all prefixes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i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47:21Z</dcterms:modified>
  <cp:revision>106</cp:revision>
  <dc:subject/>
  <dc:title>Unit 2: Introduction to Chemistry</dc:title>
</cp:coreProperties>
</file>