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A79-1651-4389-8968-3F313F57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A01-4BB0-4CE1-8120-3AD852A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999-4D88-40F7-8E25-E0142DF4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BC8-7EE6-419A-8493-2033C8C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BD38-2EF9-4406-8FA3-73ECBE84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4B09-5B4C-4D90-BAB3-23BF623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230-CF51-47B9-9A39-EC1A23F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3A3-64A8-4DC3-9658-87811F52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9513-0C9A-47A5-A2AF-7E0A7BF7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CC0-E0EE-4A99-9252-1654D2C1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E92B-3831-48A5-A962-8E8AA01F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5F7-7BC4-4FA1-B545-88A47FB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5AD-2247-4854-A4BE-DEE01D0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8F7-C6B2-43B8-9F34-93BB65A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9813-8B9E-49CB-86EE-9D745F33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4F3-4D05-4F83-97BC-35A0AFCC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7BB-81B0-4BB7-8CFF-4F0256A8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E83-45CC-4A12-9185-E7ACBF6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E08-F9B7-4F55-B2C2-CE442C77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733-602F-4E7D-A036-FDFD196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327-4FA6-413C-9FA2-8DEBAB5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75C-97EE-47C1-9669-1C6F67C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D16-5DA0-4BA0-A541-F58357B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BBE-F149-49E0-B90E-BF6DE35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8D9-6992-47CA-B553-33ECC6E003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582-AFF7-4B4F-9544-B8A9A86A93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nknown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nitial amount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List all the CF(s) that will relate or connect the initial units to the unknown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3208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tep metric conversions involve a BASE UNIT (metres, litres, grams, or seconds) being converted to a PREFIXED METRIC UNIT or vice 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486040" y="16765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066680"/>
          <a:ext cx="9144000" cy="533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5 on page 19 (Practice making CF)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# 16 (all) and 17 (odd letters…a,c,e…) on page 21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rcise 26 – 28 on page 22</a:t>
                      </a:r>
                      <a:r>
                        <a:rPr b="0" lang="en-CA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and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(abbreviated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from the French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ystème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nternational d'unité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)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This system is 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It is the world's most widely used system of measurement, both in everyday commerce and in sc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Tahoma"/>
              </a:rPr>
              <a:t>Meter-m, gram-g (kg is the actual SI unit… but in Chemistry we use the gram), second- s, mole- mol, litre- L, tonne-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22:38Z</dcterms:modified>
  <cp:revision>103</cp:revision>
  <dc:subject/>
  <dc:title>Unit 2: Introduction to Chemistry</dc:title>
</cp:coreProperties>
</file>