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43C7-8F4F-4F8B-8A2A-42633F539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1AC1-6F99-4994-9959-C6350F08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6DD8-1957-4B01-8789-42601A11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E6A4-320D-46E4-B611-F0D145C08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1370-F5CB-4B8F-AB7B-7BD44F98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C26C-9EB4-4C2E-BE3D-98DEE40A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B001-6CC5-4C84-BBAA-36D8C278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2134-4049-4BF6-902A-FE2999E7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B6EF-AAED-401C-8832-D9947CEB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F512-D1BF-4E5D-8EFC-6FF4E6D8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EB3F-5026-4945-8240-5B28EF40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2952-303C-4944-B505-F1D477F8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9BC4-5C87-4464-AECE-3AFEA363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CC20-76E1-4757-9F7A-69555CE7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B399-B111-469D-BFD6-C5238F3D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D2D5-B572-4C1B-856A-21328672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9463-244C-4C5A-9791-2F7AE8BF2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D135-64EC-4675-A017-B1524D4E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53B7-BAB9-468E-AB58-EA011B0C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DBC1-DD9D-470B-BBDB-0F909777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6241-266A-4317-9C3F-2C1FF782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E213-ADDB-41F7-A5AE-7CCB020D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B9C1-40F5-4A16-A8F4-5616E45D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BA59-3BD0-4737-B764-AF1EFE1B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7922-F0CA-482B-999C-A3AC2234CD6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EBEA-B4AC-4380-8FB7-3F22748086E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dbbd71"/>
                </a:solidFill>
                <a:latin typeface="Arial"/>
              </a:rPr>
              <a:t>Lesson</a:t>
            </a:r>
            <a:br>
              <a:rPr sz="5400"/>
            </a:br>
            <a:r>
              <a:rPr b="0" lang="en-CA" sz="5400" spc="-1" strike="noStrike">
                <a:solidFill>
                  <a:srgbClr val="dbbd71"/>
                </a:solidFill>
                <a:latin typeface="Arial"/>
              </a:rPr>
              <a:t>2.2 and 2.3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800" spc="-1" strike="noStrike">
                <a:solidFill>
                  <a:srgbClr val="ffffff"/>
                </a:solidFill>
                <a:latin typeface="Tahoma"/>
              </a:rPr>
              <a:t>Metric Prefix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000" spc="-1" strike="noStrike">
                <a:solidFill>
                  <a:srgbClr val="ffffff"/>
                </a:solidFill>
                <a:latin typeface="Tahoma"/>
              </a:rPr>
              <a:t>(pages 16-23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dbbd71"/>
                </a:solidFill>
                <a:uFillTx/>
                <a:latin typeface="Arial"/>
              </a:rPr>
              <a:t>2.3 Summery Notes</a:t>
            </a: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. Sample Question: How many micrometers are there in 5 c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lan: cm</a:t>
            </a:r>
            <a:r>
              <a:rPr b="0" lang="en-CA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CA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dbbd71"/>
                </a:solidFill>
                <a:uFillTx/>
                <a:latin typeface="Arial"/>
              </a:rPr>
              <a:t>2.3 Summery Notes</a:t>
            </a: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. Sample Question: How many micrometers are there in 5 c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lan: cm</a:t>
            </a:r>
            <a:r>
              <a:rPr b="0" lang="en-CA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CA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# um    =   5 cm x  </a:t>
            </a: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 1 x 10</a:t>
            </a:r>
            <a:r>
              <a:rPr b="0" lang="en-CA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2</a:t>
            </a: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x    </a:t>
            </a: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1 um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1 cm       1 x 10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-6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= 5 x 10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4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2. For every METRIC conversion use the following steps: U = I x CF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Identify the unknown amount and un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Tahoma"/>
              </a:rPr>
              <a:t>Identify the initial amount and un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8a500"/>
                </a:solidFill>
                <a:latin typeface="Tahoma"/>
              </a:rPr>
              <a:t>List all the CF(s) that will relate or connect the initial units to the unknown un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ccff"/>
                </a:solidFill>
                <a:latin typeface="Tahoma"/>
              </a:rPr>
              <a:t>Solv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cccff"/>
                </a:solidFill>
                <a:latin typeface="Tahoma"/>
              </a:rPr>
              <a:t>For every metric conversion you must first </a:t>
            </a:r>
            <a:r>
              <a:rPr b="1" lang="en-CA" sz="2400" spc="-1" strike="noStrike" u="sng">
                <a:solidFill>
                  <a:srgbClr val="ccccff"/>
                </a:solidFill>
                <a:uFillTx/>
                <a:latin typeface="Tahoma"/>
              </a:rPr>
              <a:t>convert into the base un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Tahoma"/>
              </a:rPr>
              <a:t>In the CF, the </a:t>
            </a:r>
            <a:r>
              <a:rPr b="1" lang="en-CA" sz="2400" spc="-1" strike="noStrike" u="sng">
                <a:solidFill>
                  <a:srgbClr val="ff0000"/>
                </a:solidFill>
                <a:uFillTx/>
                <a:latin typeface="Tahoma"/>
              </a:rPr>
              <a:t>prefix will always get the “1”</a:t>
            </a:r>
            <a:r>
              <a:rPr b="0" lang="en-CA" sz="2400" spc="-1" strike="noStrike">
                <a:solidFill>
                  <a:srgbClr val="ff0000"/>
                </a:solidFill>
                <a:latin typeface="Tahoma"/>
              </a:rPr>
              <a:t> and the </a:t>
            </a:r>
            <a:r>
              <a:rPr b="1" lang="en-CA" sz="2400" spc="-1" strike="noStrike" u="sng">
                <a:solidFill>
                  <a:srgbClr val="ff0000"/>
                </a:solidFill>
                <a:uFillTx/>
                <a:latin typeface="Tahoma"/>
              </a:rPr>
              <a:t>base will always get the exponential equivalent val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cff66"/>
                </a:solidFill>
                <a:latin typeface="Tahoma"/>
              </a:rPr>
              <a:t>When you have a question that requires more than one CF… make a plan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111560" y="3208320"/>
            <a:ext cx="6858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11400" y="21146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55640" y="36432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55640" y="29304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60640" y="5208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4760" y="29671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18160" y="20210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89560" y="49719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4760" y="43848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4760" y="367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55640" y="43498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11360" y="24955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054160" y="3794040"/>
            <a:ext cx="194328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168640" y="4028760"/>
            <a:ext cx="194292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511000" y="4264200"/>
            <a:ext cx="171468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683240" y="2381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797000" y="3208320"/>
            <a:ext cx="20574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4797000" y="3794040"/>
            <a:ext cx="20574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797000" y="4028760"/>
            <a:ext cx="205740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682880" y="4264200"/>
            <a:ext cx="160020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532080"/>
            <a:ext cx="79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The Metric Spid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16080" y="3243240"/>
            <a:ext cx="194328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111560" y="3208320"/>
            <a:ext cx="6858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11400" y="21146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55640" y="36432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55640" y="29304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60640" y="5208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54760" y="29671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518160" y="20210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289560" y="49719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54760" y="43848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4760" y="367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55640" y="43498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11360" y="24955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054160" y="3794040"/>
            <a:ext cx="194328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168640" y="4028760"/>
            <a:ext cx="194292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11000" y="4264200"/>
            <a:ext cx="171468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683240" y="2381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797000" y="3208320"/>
            <a:ext cx="20574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4797000" y="3794040"/>
            <a:ext cx="20574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4797000" y="4028760"/>
            <a:ext cx="205740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682880" y="4264200"/>
            <a:ext cx="160020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71480" y="533520"/>
            <a:ext cx="79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The Metric Spid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16080" y="3243240"/>
            <a:ext cx="194328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571640" y="2209680"/>
            <a:ext cx="2286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9880" y="1828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se Un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43000" y="1371600"/>
            <a:ext cx="9907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1371600"/>
            <a:ext cx="457200" cy="2133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1066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ric Prefix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990960" y="1938240"/>
            <a:ext cx="1108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*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13040" y="1828800"/>
            <a:ext cx="1608120" cy="3768840"/>
          </a:xfrm>
          <a:prstGeom prst="ellipse">
            <a:avLst/>
          </a:prstGeom>
          <a:noFill/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89160" y="36036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49920" y="541800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35520" y="47160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12040" y="142704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372440" y="460044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4880" y="142884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81040" y="432432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3880" y="284148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6400" y="540396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426440" y="304812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92280" y="14698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2440" y="29242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94480" y="3117960"/>
            <a:ext cx="102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426440" y="15256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c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437600" y="466884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34160" y="544680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3880" y="441972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31920" y="442800"/>
            <a:ext cx="102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0" y="547200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49920" y="54144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59000" y="1301760"/>
            <a:ext cx="830520" cy="74916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90560" y="2244600"/>
            <a:ext cx="2160720" cy="6368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90560" y="3490920"/>
            <a:ext cx="1855800" cy="284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635120" y="4378320"/>
            <a:ext cx="2049480" cy="63648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3241800" y="5292720"/>
            <a:ext cx="664920" cy="33192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4987440" y="5319360"/>
            <a:ext cx="830520" cy="41580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5208480" y="4405320"/>
            <a:ext cx="2162160" cy="5270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5403960" y="3519000"/>
            <a:ext cx="1938240" cy="1112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319360" y="2160720"/>
            <a:ext cx="2050920" cy="5000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014800" y="1357200"/>
            <a:ext cx="720720" cy="69372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990960" y="1938240"/>
            <a:ext cx="1108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*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33920" y="1828800"/>
            <a:ext cx="1608120" cy="3768840"/>
          </a:xfrm>
          <a:prstGeom prst="ellipse">
            <a:avLst/>
          </a:prstGeom>
          <a:noFill/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189160" y="36036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749920" y="541800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35520" y="47160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412040" y="142704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372440" y="460044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04880" y="142884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1040" y="432432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23880" y="284148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46400" y="540396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426440" y="304812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2280" y="14698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2440" y="29242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494480" y="3117960"/>
            <a:ext cx="102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426440" y="15256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c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437600" y="466884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834160" y="544680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3880" y="441972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131920" y="442800"/>
            <a:ext cx="102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09680" y="5410080"/>
            <a:ext cx="119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49920" y="54144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159000" y="1301760"/>
            <a:ext cx="830520" cy="74916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690560" y="2244600"/>
            <a:ext cx="2160720" cy="6368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90560" y="3490920"/>
            <a:ext cx="1855800" cy="284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635120" y="4378320"/>
            <a:ext cx="2049480" cy="63648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241800" y="5292720"/>
            <a:ext cx="664920" cy="33192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4987440" y="5319360"/>
            <a:ext cx="830520" cy="41580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5208480" y="4405320"/>
            <a:ext cx="2162160" cy="5270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5403960" y="3519000"/>
            <a:ext cx="1938240" cy="1112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319360" y="2160720"/>
            <a:ext cx="2050920" cy="5000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5014800" y="1357200"/>
            <a:ext cx="720720" cy="69372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76720" y="152388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743200" y="236232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590920" y="327672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91120"/>
            <a:ext cx="10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510552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800600" y="152388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257800" y="236232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181480" y="3200400"/>
            <a:ext cx="10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181480" y="4267080"/>
            <a:ext cx="10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24280" y="5257800"/>
            <a:ext cx="10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00400" y="129528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057400" y="320040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133720" y="21337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209680" y="46483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00400" y="53341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86400" y="548640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477120" y="449568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29400" y="335268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400800" y="21337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2193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ee SWB pages 19-21 for examp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1. ONE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step metric conversions involve a BASE UNIT (metres, litres, grams, or seconds) being converted to a PREFIXED METRIC UNIT or vice vers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1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 Convert 9.4 nm into met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1. ONE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1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9.4 nM into metres (n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m = 9.4 nM x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x 10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9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n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Key Vocabulary Word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I un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etric pref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Base un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etric conver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Derived un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Derived quant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1. ONE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1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9.4 nM into metres (n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m = 9.4 nM x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x 10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9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= 9.4 x 10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ahoma"/>
              </a:rPr>
              <a:t>-9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n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2. TWO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PREFIXES in the ques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require the use of 2 C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lways convert to the base unit fir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2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6.32 um into k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2. TWO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2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6.32 um into km (u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km = 6.32 um x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x 10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6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x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k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um      1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2. TWO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2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6.32 um into km (u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km = 6.32 um x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x 10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6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x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k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um          1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= 6.32 x 10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ahoma"/>
              </a:rPr>
              <a:t>-9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k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3. DERIVED UNIT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 3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vert 55.0 km/h into m/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3. DERIVED UNIT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3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55.0 km/h into m/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F’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k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60 se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       1 min        60 m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 1: K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 2: h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i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3123720" y="160020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5486040" y="1676520"/>
            <a:ext cx="10666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733920" y="1066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400800" y="1219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3. DERIVED UNIT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3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55.0 km/h into m/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# m/s = 55.0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k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x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x10</a:t>
            </a:r>
            <a:r>
              <a:rPr b="0" lang="en-US" sz="2800" spc="-1" strike="noStrike" u="sng" baseline="30000">
                <a:solidFill>
                  <a:srgbClr val="ffffff"/>
                </a:solidFill>
                <a:uFillTx/>
                <a:latin typeface="Tahoma"/>
              </a:rPr>
              <a:t>3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x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 </a:t>
            </a:r>
            <a:r>
              <a:rPr b="0" lang="en-US" sz="2800" spc="-1" strike="noStrike" u="sng">
                <a:solidFill>
                  <a:srgbClr val="00ff00"/>
                </a:solidFill>
                <a:uFillTx/>
                <a:latin typeface="Tahoma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x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 m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1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k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60 min     60 s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15. 3 m/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743200" y="3352680"/>
            <a:ext cx="5335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343400" y="373392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743200" y="3809520"/>
            <a:ext cx="5335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791320" y="3276360"/>
            <a:ext cx="4572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867280" y="373392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7391520" y="32004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315200" y="3581280"/>
            <a:ext cx="838080" cy="6098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048120"/>
            <a:ext cx="838080" cy="609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0" y="1066680"/>
          <a:ext cx="9144000" cy="53337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27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Rockwell Extra Bold"/>
                          <a:ea typeface="Times New Roman"/>
                        </a:rPr>
                        <a:t>Practice task(s) to learn these new skill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ercise # 15 on page 19 (Practice making CF)</a:t>
                      </a:r>
                      <a:r>
                        <a:rPr b="0" lang="en-CA" sz="32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ercise # 16 (all) and 17 (odd letters…a,c,e…) on page 21</a:t>
                      </a:r>
                      <a:r>
                        <a:rPr b="0" lang="en-CA" sz="32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ercise 26 – 28 on page 22</a:t>
                      </a:r>
                      <a:r>
                        <a:rPr b="0" lang="en-CA" sz="32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2.2 and 2.3 Learning Outcom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Recognize base units and metric prefix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o create CF by comparing base units to a metric pref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o solve simple (1 CF) and complex (2 or more CF) metric conversion probl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Comic Sans MS"/>
              </a:rPr>
              <a:t>Metric Prefixes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685800" y="990720"/>
            <a:ext cx="7772400" cy="562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952880" y="685800"/>
            <a:ext cx="3886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792720"/>
            <a:ext cx="6096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ss of Earth = 5.9742 ×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24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kilograms (kg) = 5.9742 x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18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Giga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2666880"/>
            <a:ext cx="6400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We spend 1/3 of our life sleeping, that is 27.37 years, 8.6 x 10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8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seconds or 8.63 x 10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megaseconds (863 Mse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304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Some more uses of metric prefi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4724280"/>
            <a:ext cx="60195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 Sloth’s top speed is 5 m/min = 0.3 km/hr or 5000 mm/min, or 83 mm/s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324480" y="914400"/>
            <a:ext cx="1847880" cy="1847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248520" y="4952880"/>
            <a:ext cx="2438280" cy="1830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019920" y="3352680"/>
            <a:ext cx="202860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dbbd71"/>
                </a:solidFill>
                <a:uFillTx/>
                <a:latin typeface="Arial"/>
              </a:rPr>
              <a:t>2.2 Summery Notes</a:t>
            </a: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International System of Units</a:t>
            </a: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 (abbreviated </a:t>
            </a: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SI</a:t>
            </a: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 from the French </a:t>
            </a:r>
            <a:r>
              <a:rPr b="0" i="1" lang="fr-FR" sz="2800" spc="-1" strike="noStrike">
                <a:solidFill>
                  <a:srgbClr val="ffffff"/>
                </a:solidFill>
                <a:latin typeface="Tahoma"/>
              </a:rPr>
              <a:t>le </a:t>
            </a:r>
            <a:r>
              <a:rPr b="1" i="1" lang="fr-FR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i="1" lang="fr-FR" sz="2800" spc="-1" strike="noStrike">
                <a:solidFill>
                  <a:srgbClr val="ffffff"/>
                </a:solidFill>
                <a:latin typeface="Tahoma"/>
              </a:rPr>
              <a:t>ystème </a:t>
            </a:r>
            <a:r>
              <a:rPr b="1" i="1" lang="fr-FR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i="1" lang="fr-FR" sz="2800" spc="-1" strike="noStrike">
                <a:solidFill>
                  <a:srgbClr val="ffffff"/>
                </a:solidFill>
                <a:latin typeface="Tahoma"/>
              </a:rPr>
              <a:t>nternational d'unités</a:t>
            </a: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) is the modern form of the metric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ccff66"/>
                </a:solidFill>
                <a:latin typeface="Tahoma"/>
              </a:rPr>
              <a:t>This system is devised around the convenience of the number ten.</a:t>
            </a: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It is the world's most widely used system of measurement, both in everyday commerce and in scie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ccff"/>
                </a:solidFill>
                <a:latin typeface="Tahoma"/>
              </a:rPr>
              <a:t>Base units: a basic unit of measurement, all other units are multiples of the base un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66"/>
                </a:solidFill>
                <a:latin typeface="Tahoma"/>
              </a:rPr>
              <a:t>Meter-m, gram-g (kg is the actual SI unit… but in Chemistry we use the gram), second- s, mole- mol, litre- L, tonne- 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Tahoma"/>
              </a:rPr>
              <a:t>Prefixes are multiples of base units (see SWB for all prefixes)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295280"/>
                <a:gridCol w="1676520"/>
                <a:gridCol w="1295280"/>
                <a:gridCol w="1524240"/>
                <a:gridCol w="1523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Example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Written prefi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Prefix symb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Unit symbo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Exponential equival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nt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CA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ilogr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icrogra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295280"/>
                <a:gridCol w="1676520"/>
                <a:gridCol w="1295280"/>
                <a:gridCol w="1524240"/>
                <a:gridCol w="1523880"/>
              </a:tblGrid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Example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Written prefi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Prefix symb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Unit symbo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Exponential equival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nt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CA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ilogr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i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i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ig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l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co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-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icrogra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c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am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c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t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dbbd71"/>
                </a:solidFill>
                <a:uFillTx/>
                <a:latin typeface="Arial"/>
              </a:rPr>
              <a:t>2.3 Summery Notes</a:t>
            </a: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. Sample Question: How many micrometers are there in 5 c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4:29:07Z</dcterms:created>
  <dc:creator>owner</dc:creator>
  <dc:description/>
  <dc:language>en-US</dc:language>
  <cp:lastModifiedBy>Mullin Hales Family</cp:lastModifiedBy>
  <dcterms:modified xsi:type="dcterms:W3CDTF">2010-10-05T04:22:38Z</dcterms:modified>
  <cp:revision>103</cp:revision>
  <dc:subject/>
  <dc:title>Unit 2: Introduction to Chemistry</dc:title>
</cp:coreProperties>
</file>