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14D-7D4D-4317-81D7-1A41458B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0A8-F7CB-43E1-B337-3DD6037A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F8A-C7F6-4817-B3C3-087DE9A9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43E-51C9-4B99-BE9F-289F8D4D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916-5B8B-4247-AC4E-3A430BFC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C14-3401-4FB9-A12D-1728D4D4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FB25-7964-4385-B949-4DDA3C81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D8D9-C544-40F2-9B58-D01D6EC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F17D-7EB6-46F1-8A7D-9FA1369E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F8F0-D6F0-4504-A544-8C02684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D90-E4A7-4E7F-A6E7-68571CC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401-FF7D-4ACD-A3C3-830BE9F0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E83-0379-4D4C-8258-F0FBA14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BF37-B70C-42A7-9247-A8838BF2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FBC-3C66-4F93-A22E-F38A574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6DAC-EC5B-40FF-A017-871882A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B4D6-AC6B-4FFE-B002-C96DAF4C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DAF-EF53-41E9-B8B5-E5CEABA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5DC-3998-409C-A19E-FCD2CF6F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93A-1302-43D2-8E0F-72C46D3D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84D-9336-45A4-9FF5-676AF501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DF6-1E82-42BF-A259-9A2BAEB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C19-6437-4C15-85BA-98C96BC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4FE-AF70-4A13-B98B-4137232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AB4-6925-4562-A8CA-1711C48EE6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F7A0-60E5-4733-9D10-98FF2119D9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nknown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nitial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List all the CF(s) that will relate or connect the initial units to the unknown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3208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tep metric conversions involve a BASE UNIT (metres, litres, grams, or seconds) being converted to a PREFIXED METRIC UNIT or vice 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486040" y="16765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066680"/>
          <a:ext cx="9144000" cy="533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5 on page 19 (Practice making CF)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6 (all) and 17 (odd letters…a,c,e…) on page 21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26 – 28 on page 22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and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(abbreviated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from the French 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l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ystèm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nternational d'unité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)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This system is 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It is the world's most widely used system of measurement, both in everyday commerce and in sc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Tahoma"/>
              </a:rPr>
              <a:t>Meter-m, gram-g (kg is the actual SI unit… but in Chemistry we use the gram), second- s, mole- mol, litre- L, tonne-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22:38Z</dcterms:modified>
  <cp:revision>103</cp:revision>
  <dc:subject/>
  <dc:title>Unit 2: Introduction to Chemistry</dc:title>
</cp:coreProperties>
</file>