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D21B-EC71-42EB-8BDA-69DC366E7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A13A-60D1-4E2E-BD99-C646A9EBB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C902-AE66-4A28-B919-4F69400CE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ABCE-DD20-42A9-B991-1B11F1855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F978A-3061-42D3-A5D7-E23F030A1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47096-09B7-422D-BF7A-3D8468C05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5D67E-EB6D-49A6-8C3C-29F95EBF3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2E81D-8AD0-4E9D-9C2A-9EAE7049F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CF692-F373-4BF3-8572-66382B33B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BBA5F-C814-4D44-A656-976FF3017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D79CE-8048-4673-8BE6-C8AD8DE85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EF09-8F19-402A-BBF3-5D597C864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087C0-CD9F-4A35-8F40-6C2A7A535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F439C-3A1A-4220-8757-D1EEB1FE7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9BAF0-CE38-4FB5-BE99-A09831346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1F936-A0E9-4AD9-91E6-7DCBABFEC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4C52C-1505-4C68-BBE4-B526F354E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7DF4-544F-4E03-9966-4C4BF31E6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C556-61DF-426F-BFA1-5AB58164C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985C-B8CE-4C7A-A698-EA11ABF2F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8276-69CE-44CB-8A29-0944AA572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D395-02CB-4583-B605-5BF2EF183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DB03-80A7-49D2-806B-EDC906C61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5851-CA93-49F1-85D1-5A0CAD19B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FFACF-B60B-4F72-B915-B2FCA63E28D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ACA65-224E-40E0-9AB3-071DDE94F5F8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400" spc="-1" strike="noStrike">
                <a:solidFill>
                  <a:srgbClr val="dbbd71"/>
                </a:solidFill>
                <a:latin typeface="Arial"/>
              </a:rPr>
              <a:t>Lesson</a:t>
            </a:r>
            <a:br>
              <a:rPr sz="5400"/>
            </a:br>
            <a:r>
              <a:rPr b="0" lang="en-CA" sz="5400" spc="-1" strike="noStrike">
                <a:solidFill>
                  <a:srgbClr val="dbbd71"/>
                </a:solidFill>
                <a:latin typeface="Arial"/>
              </a:rPr>
              <a:t>2.2 and 2.3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4800" spc="-1" strike="noStrike">
                <a:solidFill>
                  <a:srgbClr val="ffffff"/>
                </a:solidFill>
                <a:latin typeface="Tahoma"/>
              </a:rPr>
              <a:t>Metric Prefixe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4000" spc="-1" strike="noStrike">
                <a:solidFill>
                  <a:srgbClr val="ffffff"/>
                </a:solidFill>
                <a:latin typeface="Tahoma"/>
              </a:rPr>
              <a:t>(pages 16-23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 u="sng">
                <a:solidFill>
                  <a:srgbClr val="dbbd71"/>
                </a:solidFill>
                <a:uFillTx/>
                <a:latin typeface="Arial"/>
              </a:rPr>
              <a:t>2.3 Summery Notes</a:t>
            </a:r>
            <a:r>
              <a:rPr b="0" lang="en-CA" sz="44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1. Sample Question: How many micrometers are there in 5 c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Plan: cm</a:t>
            </a:r>
            <a:r>
              <a:rPr b="0" lang="en-CA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m</a:t>
            </a:r>
            <a:r>
              <a:rPr b="0" lang="en-CA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u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 u="sng">
                <a:solidFill>
                  <a:srgbClr val="dbbd71"/>
                </a:solidFill>
                <a:uFillTx/>
                <a:latin typeface="Arial"/>
              </a:rPr>
              <a:t>2.3 Summery Notes</a:t>
            </a:r>
            <a:r>
              <a:rPr b="0" lang="en-CA" sz="44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1. Sample Question: How many micrometers are there in 5 c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Plan: cm</a:t>
            </a:r>
            <a:r>
              <a:rPr b="0" lang="en-CA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m</a:t>
            </a:r>
            <a:r>
              <a:rPr b="0" lang="en-CA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u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# um    =   5 cm x  </a:t>
            </a:r>
            <a:r>
              <a:rPr b="0" lang="en-CA" sz="3200" spc="-1" strike="noStrike" u="sng">
                <a:solidFill>
                  <a:srgbClr val="ffffff"/>
                </a:solidFill>
                <a:uFillTx/>
                <a:latin typeface="Tahoma"/>
              </a:rPr>
              <a:t> 1 x 10</a:t>
            </a:r>
            <a:r>
              <a:rPr b="0" lang="en-CA" sz="3200" spc="-1" strike="noStrike" u="sng" baseline="30000">
                <a:solidFill>
                  <a:srgbClr val="ffffff"/>
                </a:solidFill>
                <a:uFillTx/>
                <a:latin typeface="Tahoma"/>
              </a:rPr>
              <a:t>-2</a:t>
            </a:r>
            <a:r>
              <a:rPr b="0" lang="en-CA" sz="3200" spc="-1" strike="noStrike" u="sng">
                <a:solidFill>
                  <a:srgbClr val="ffffff"/>
                </a:solidFill>
                <a:uFillTx/>
                <a:latin typeface="Tahoma"/>
              </a:rPr>
              <a:t> m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 x    </a:t>
            </a:r>
            <a:r>
              <a:rPr b="0" lang="en-CA" sz="3200" spc="-1" strike="noStrike" u="sng">
                <a:solidFill>
                  <a:srgbClr val="ffffff"/>
                </a:solidFill>
                <a:uFillTx/>
                <a:latin typeface="Tahoma"/>
              </a:rPr>
              <a:t>1 um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                                                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     1 cm       1 x 10</a:t>
            </a:r>
            <a:r>
              <a:rPr b="0" lang="en-CA" sz="3200" spc="-1" strike="noStrike" baseline="30000">
                <a:solidFill>
                  <a:srgbClr val="ffffff"/>
                </a:solidFill>
                <a:latin typeface="Tahoma"/>
              </a:rPr>
              <a:t>-6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 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= 5 x 10</a:t>
            </a:r>
            <a:r>
              <a:rPr b="0" lang="en-CA" sz="3200" spc="-1" strike="noStrike" baseline="30000">
                <a:solidFill>
                  <a:srgbClr val="ffffff"/>
                </a:solidFill>
                <a:latin typeface="Tahoma"/>
              </a:rPr>
              <a:t>4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 u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dbbd71"/>
                </a:solidFill>
                <a:latin typeface="Arial"/>
              </a:rPr>
              <a:t>2. For every METRIC conversion use the following steps: U = I x CF 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Identify the unknown amount and uni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0000"/>
                </a:solidFill>
                <a:latin typeface="Tahoma"/>
              </a:rPr>
              <a:t>Identify the initial amount and uni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8a500"/>
                </a:solidFill>
                <a:latin typeface="Tahoma"/>
              </a:rPr>
              <a:t>List all the CF(s) that will relate or connect the initial units to the unknown uni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99ccff"/>
                </a:solidFill>
                <a:latin typeface="Tahoma"/>
              </a:rPr>
              <a:t>Solv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ccccff"/>
                </a:solidFill>
                <a:latin typeface="Tahoma"/>
              </a:rPr>
              <a:t>For every metric conversion you must first </a:t>
            </a:r>
            <a:r>
              <a:rPr b="1" lang="en-CA" sz="2400" spc="-1" strike="noStrike" u="sng">
                <a:solidFill>
                  <a:srgbClr val="ccccff"/>
                </a:solidFill>
                <a:uFillTx/>
                <a:latin typeface="Tahoma"/>
              </a:rPr>
              <a:t>convert into the base uni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0000"/>
                </a:solidFill>
                <a:latin typeface="Tahoma"/>
              </a:rPr>
              <a:t>In the CF, the </a:t>
            </a:r>
            <a:r>
              <a:rPr b="1" lang="en-CA" sz="2400" spc="-1" strike="noStrike" u="sng">
                <a:solidFill>
                  <a:srgbClr val="ff0000"/>
                </a:solidFill>
                <a:uFillTx/>
                <a:latin typeface="Tahoma"/>
              </a:rPr>
              <a:t>prefix will always get the “1”</a:t>
            </a:r>
            <a:r>
              <a:rPr b="0" lang="en-CA" sz="2400" spc="-1" strike="noStrike">
                <a:solidFill>
                  <a:srgbClr val="ff0000"/>
                </a:solidFill>
                <a:latin typeface="Tahoma"/>
              </a:rPr>
              <a:t> and the </a:t>
            </a:r>
            <a:r>
              <a:rPr b="1" lang="en-CA" sz="2400" spc="-1" strike="noStrike" u="sng">
                <a:solidFill>
                  <a:srgbClr val="ff0000"/>
                </a:solidFill>
                <a:uFillTx/>
                <a:latin typeface="Tahoma"/>
              </a:rPr>
              <a:t>base will always get the exponential equivalent valu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ccff66"/>
                </a:solidFill>
                <a:latin typeface="Tahoma"/>
              </a:rPr>
              <a:t>When you have a question that requires more than one CF… make a plan!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4111560" y="3208320"/>
            <a:ext cx="685800" cy="11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111400" y="211464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55640" y="364320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55640" y="293040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060640" y="520848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854760" y="296712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518160" y="202104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289560" y="497196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854760" y="438480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854760" y="367992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655640" y="434988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511360" y="2495520"/>
            <a:ext cx="160020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2054160" y="3794040"/>
            <a:ext cx="194328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2168640" y="4028760"/>
            <a:ext cx="1942920" cy="57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2511000" y="4264200"/>
            <a:ext cx="1714680" cy="1028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683240" y="2381400"/>
            <a:ext cx="182880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4797000" y="3208320"/>
            <a:ext cx="205740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 flipV="1">
            <a:off x="4797000" y="3794040"/>
            <a:ext cx="205740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4797000" y="4028760"/>
            <a:ext cx="2057400" cy="57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4682880" y="4264200"/>
            <a:ext cx="1600200" cy="799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62120" y="532080"/>
            <a:ext cx="795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  <a:ea typeface="Times New Roman"/>
              </a:rPr>
              <a:t>The Metric Spider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!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116080" y="3243240"/>
            <a:ext cx="194328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4111560" y="3208320"/>
            <a:ext cx="685800" cy="11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111400" y="211464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655640" y="364320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655640" y="293040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060640" y="520848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854760" y="296712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518160" y="202104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289560" y="497196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854760" y="438480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854760" y="367992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655640" y="434988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511360" y="2495520"/>
            <a:ext cx="160020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2054160" y="3794040"/>
            <a:ext cx="194328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2168640" y="4028760"/>
            <a:ext cx="1942920" cy="57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2511000" y="4264200"/>
            <a:ext cx="1714680" cy="1028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4683240" y="2381400"/>
            <a:ext cx="182880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4797000" y="3208320"/>
            <a:ext cx="205740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 flipV="1">
            <a:off x="4797000" y="3794040"/>
            <a:ext cx="205740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H="1" flipV="1">
            <a:off x="4797000" y="4028760"/>
            <a:ext cx="2057400" cy="57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4682880" y="4264200"/>
            <a:ext cx="1600200" cy="799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71480" y="533520"/>
            <a:ext cx="795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  <a:ea typeface="Times New Roman"/>
              </a:rPr>
              <a:t>The Metric Spider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!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116080" y="3243240"/>
            <a:ext cx="194328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4571640" y="2209680"/>
            <a:ext cx="22860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809880" y="18288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ase Uni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43000" y="1371600"/>
            <a:ext cx="99072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143000" y="1371600"/>
            <a:ext cx="457200" cy="2133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28600" y="10666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etric Prefix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3990960" y="1938240"/>
            <a:ext cx="110808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**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713040" y="1828800"/>
            <a:ext cx="1608120" cy="3768840"/>
          </a:xfrm>
          <a:prstGeom prst="ellipse">
            <a:avLst/>
          </a:prstGeom>
          <a:noFill/>
          <a:ln w="114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189160" y="360360"/>
            <a:ext cx="1052640" cy="1108080"/>
          </a:xfrm>
          <a:prstGeom prst="ellipse">
            <a:avLst/>
          </a:prstGeom>
          <a:noFill/>
          <a:ln w="1144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749920" y="5418000"/>
            <a:ext cx="1052640" cy="1108080"/>
          </a:xfrm>
          <a:prstGeom prst="ellipse">
            <a:avLst/>
          </a:prstGeom>
          <a:noFill/>
          <a:ln w="1144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735520" y="471600"/>
            <a:ext cx="1052640" cy="1108080"/>
          </a:xfrm>
          <a:prstGeom prst="ellipse">
            <a:avLst/>
          </a:prstGeom>
          <a:noFill/>
          <a:ln w="1144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412040" y="1427040"/>
            <a:ext cx="1052640" cy="1108080"/>
          </a:xfrm>
          <a:prstGeom prst="ellipse">
            <a:avLst/>
          </a:prstGeom>
          <a:noFill/>
          <a:ln w="1144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372440" y="4600440"/>
            <a:ext cx="1052280" cy="1108080"/>
          </a:xfrm>
          <a:prstGeom prst="ellipse">
            <a:avLst/>
          </a:prstGeom>
          <a:noFill/>
          <a:ln w="1144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04880" y="1428840"/>
            <a:ext cx="1052640" cy="1108080"/>
          </a:xfrm>
          <a:prstGeom prst="ellipse">
            <a:avLst/>
          </a:prstGeom>
          <a:noFill/>
          <a:ln w="1144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81040" y="4324320"/>
            <a:ext cx="1052640" cy="1108080"/>
          </a:xfrm>
          <a:prstGeom prst="ellipse">
            <a:avLst/>
          </a:prstGeom>
          <a:noFill/>
          <a:ln w="1144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23880" y="2841480"/>
            <a:ext cx="1052640" cy="1108080"/>
          </a:xfrm>
          <a:prstGeom prst="ellipse">
            <a:avLst/>
          </a:prstGeom>
          <a:noFill/>
          <a:ln w="1144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246400" y="5403960"/>
            <a:ext cx="1052280" cy="1108080"/>
          </a:xfrm>
          <a:prstGeom prst="ellipse">
            <a:avLst/>
          </a:prstGeom>
          <a:noFill/>
          <a:ln w="1144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426440" y="3048120"/>
            <a:ext cx="1052280" cy="1108080"/>
          </a:xfrm>
          <a:prstGeom prst="ellipse">
            <a:avLst/>
          </a:prstGeom>
          <a:noFill/>
          <a:ln w="1144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92280" y="1469880"/>
            <a:ext cx="1023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g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2440" y="2924280"/>
            <a:ext cx="1023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il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494480" y="3117960"/>
            <a:ext cx="1024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ill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426440" y="1525680"/>
            <a:ext cx="1023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icr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437600" y="4668840"/>
            <a:ext cx="1023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ent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834160" y="5446800"/>
            <a:ext cx="1023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c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23880" y="4419720"/>
            <a:ext cx="1023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c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131920" y="442800"/>
            <a:ext cx="1024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ig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286000" y="5472000"/>
            <a:ext cx="1023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k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749920" y="541440"/>
            <a:ext cx="1023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a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159000" y="1301760"/>
            <a:ext cx="830520" cy="749160"/>
          </a:xfrm>
          <a:prstGeom prst="line">
            <a:avLst/>
          </a:prstGeom>
          <a:ln w="114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690560" y="2244600"/>
            <a:ext cx="2160720" cy="636840"/>
          </a:xfrm>
          <a:prstGeom prst="line">
            <a:avLst/>
          </a:prstGeom>
          <a:ln w="114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690560" y="3490920"/>
            <a:ext cx="1855800" cy="28440"/>
          </a:xfrm>
          <a:prstGeom prst="line">
            <a:avLst/>
          </a:prstGeom>
          <a:ln w="114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1635120" y="4378320"/>
            <a:ext cx="2049480" cy="636480"/>
          </a:xfrm>
          <a:prstGeom prst="line">
            <a:avLst/>
          </a:prstGeom>
          <a:ln w="114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3241800" y="5292720"/>
            <a:ext cx="664920" cy="331920"/>
          </a:xfrm>
          <a:prstGeom prst="line">
            <a:avLst/>
          </a:prstGeom>
          <a:ln w="114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H="1" flipV="1">
            <a:off x="4987440" y="5319360"/>
            <a:ext cx="830520" cy="415800"/>
          </a:xfrm>
          <a:prstGeom prst="line">
            <a:avLst/>
          </a:prstGeom>
          <a:ln w="114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H="1" flipV="1">
            <a:off x="5208480" y="4405320"/>
            <a:ext cx="2162160" cy="527040"/>
          </a:xfrm>
          <a:prstGeom prst="line">
            <a:avLst/>
          </a:prstGeom>
          <a:ln w="114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 flipV="1">
            <a:off x="5403960" y="3519000"/>
            <a:ext cx="1938240" cy="111240"/>
          </a:xfrm>
          <a:prstGeom prst="line">
            <a:avLst/>
          </a:prstGeom>
          <a:ln w="114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5319360" y="2160720"/>
            <a:ext cx="2050920" cy="500040"/>
          </a:xfrm>
          <a:prstGeom prst="line">
            <a:avLst/>
          </a:prstGeom>
          <a:ln w="114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5014800" y="1357200"/>
            <a:ext cx="720720" cy="693720"/>
          </a:xfrm>
          <a:prstGeom prst="line">
            <a:avLst/>
          </a:prstGeom>
          <a:ln w="114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3990960" y="1938240"/>
            <a:ext cx="110808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**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733920" y="1828800"/>
            <a:ext cx="1608120" cy="3768840"/>
          </a:xfrm>
          <a:prstGeom prst="ellipse">
            <a:avLst/>
          </a:prstGeom>
          <a:noFill/>
          <a:ln w="114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189160" y="360360"/>
            <a:ext cx="1052640" cy="1108080"/>
          </a:xfrm>
          <a:prstGeom prst="ellipse">
            <a:avLst/>
          </a:prstGeom>
          <a:noFill/>
          <a:ln w="1144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749920" y="5418000"/>
            <a:ext cx="1052640" cy="1108080"/>
          </a:xfrm>
          <a:prstGeom prst="ellipse">
            <a:avLst/>
          </a:prstGeom>
          <a:noFill/>
          <a:ln w="1144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735520" y="471600"/>
            <a:ext cx="1052640" cy="1108080"/>
          </a:xfrm>
          <a:prstGeom prst="ellipse">
            <a:avLst/>
          </a:prstGeom>
          <a:noFill/>
          <a:ln w="1144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412040" y="1427040"/>
            <a:ext cx="1052640" cy="1108080"/>
          </a:xfrm>
          <a:prstGeom prst="ellipse">
            <a:avLst/>
          </a:prstGeom>
          <a:noFill/>
          <a:ln w="1144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372440" y="4600440"/>
            <a:ext cx="1052280" cy="1108080"/>
          </a:xfrm>
          <a:prstGeom prst="ellipse">
            <a:avLst/>
          </a:prstGeom>
          <a:noFill/>
          <a:ln w="1144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04880" y="1428840"/>
            <a:ext cx="1052640" cy="1108080"/>
          </a:xfrm>
          <a:prstGeom prst="ellipse">
            <a:avLst/>
          </a:prstGeom>
          <a:noFill/>
          <a:ln w="1144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81040" y="4324320"/>
            <a:ext cx="1052640" cy="1108080"/>
          </a:xfrm>
          <a:prstGeom prst="ellipse">
            <a:avLst/>
          </a:prstGeom>
          <a:noFill/>
          <a:ln w="1144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23880" y="2841480"/>
            <a:ext cx="1052640" cy="1108080"/>
          </a:xfrm>
          <a:prstGeom prst="ellipse">
            <a:avLst/>
          </a:prstGeom>
          <a:noFill/>
          <a:ln w="1144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46400" y="5403960"/>
            <a:ext cx="1052280" cy="1108080"/>
          </a:xfrm>
          <a:prstGeom prst="ellipse">
            <a:avLst/>
          </a:prstGeom>
          <a:noFill/>
          <a:ln w="1144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426440" y="3048120"/>
            <a:ext cx="1052280" cy="1108080"/>
          </a:xfrm>
          <a:prstGeom prst="ellipse">
            <a:avLst/>
          </a:prstGeom>
          <a:noFill/>
          <a:ln w="1144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92280" y="1469880"/>
            <a:ext cx="1023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22440" y="2924280"/>
            <a:ext cx="1023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il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7494480" y="3117960"/>
            <a:ext cx="1024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ill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7426440" y="1525680"/>
            <a:ext cx="1023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icr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437600" y="4668840"/>
            <a:ext cx="1023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ent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834160" y="5446800"/>
            <a:ext cx="1023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c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23880" y="4419720"/>
            <a:ext cx="1023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c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131920" y="442800"/>
            <a:ext cx="1024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ig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209680" y="5410080"/>
            <a:ext cx="1198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k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749920" y="541440"/>
            <a:ext cx="1023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a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159000" y="1301760"/>
            <a:ext cx="830520" cy="749160"/>
          </a:xfrm>
          <a:prstGeom prst="line">
            <a:avLst/>
          </a:prstGeom>
          <a:ln w="114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690560" y="2244600"/>
            <a:ext cx="2160720" cy="636840"/>
          </a:xfrm>
          <a:prstGeom prst="line">
            <a:avLst/>
          </a:prstGeom>
          <a:ln w="114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690560" y="3490920"/>
            <a:ext cx="1855800" cy="28440"/>
          </a:xfrm>
          <a:prstGeom prst="line">
            <a:avLst/>
          </a:prstGeom>
          <a:ln w="114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635120" y="4378320"/>
            <a:ext cx="2049480" cy="636480"/>
          </a:xfrm>
          <a:prstGeom prst="line">
            <a:avLst/>
          </a:prstGeom>
          <a:ln w="114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3241800" y="5292720"/>
            <a:ext cx="664920" cy="331920"/>
          </a:xfrm>
          <a:prstGeom prst="line">
            <a:avLst/>
          </a:prstGeom>
          <a:ln w="114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flipH="1" flipV="1">
            <a:off x="4987440" y="5319360"/>
            <a:ext cx="830520" cy="415800"/>
          </a:xfrm>
          <a:prstGeom prst="line">
            <a:avLst/>
          </a:prstGeom>
          <a:ln w="114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H="1" flipV="1">
            <a:off x="5208480" y="4405320"/>
            <a:ext cx="2162160" cy="527040"/>
          </a:xfrm>
          <a:prstGeom prst="line">
            <a:avLst/>
          </a:prstGeom>
          <a:ln w="114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5403960" y="3519000"/>
            <a:ext cx="1938240" cy="111240"/>
          </a:xfrm>
          <a:prstGeom prst="line">
            <a:avLst/>
          </a:prstGeom>
          <a:ln w="114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5319360" y="2160720"/>
            <a:ext cx="2050920" cy="500040"/>
          </a:xfrm>
          <a:prstGeom prst="line">
            <a:avLst/>
          </a:prstGeom>
          <a:ln w="114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5014800" y="1357200"/>
            <a:ext cx="720720" cy="693720"/>
          </a:xfrm>
          <a:prstGeom prst="line">
            <a:avLst/>
          </a:prstGeom>
          <a:ln w="114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276720" y="1523880"/>
            <a:ext cx="102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743200" y="2362320"/>
            <a:ext cx="102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590920" y="3276720"/>
            <a:ext cx="102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666880" y="4191120"/>
            <a:ext cx="102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276720" y="5105520"/>
            <a:ext cx="102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800600" y="1523880"/>
            <a:ext cx="102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257800" y="2362320"/>
            <a:ext cx="102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181480" y="3200400"/>
            <a:ext cx="102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181480" y="4267080"/>
            <a:ext cx="102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724280" y="5257800"/>
            <a:ext cx="102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200400" y="1295280"/>
            <a:ext cx="28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057400" y="3200400"/>
            <a:ext cx="28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133720" y="2133720"/>
            <a:ext cx="28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209680" y="4648320"/>
            <a:ext cx="28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200400" y="5334120"/>
            <a:ext cx="28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486400" y="5486400"/>
            <a:ext cx="28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477120" y="4495680"/>
            <a:ext cx="28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629400" y="3352680"/>
            <a:ext cx="28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400800" y="2133720"/>
            <a:ext cx="28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219320"/>
            <a:ext cx="28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See SWB pages 19-21 for examp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1. ONE STEP METRIC CONVERSIONS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ne step metric conversions involve a BASE UNIT (metres, litres, grams, or seconds) being converted to a PREFIXED METRIC UNIT or vice vers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ample 1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) Convert 9.4 nm into metr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1. ONE STEP METRIC CONVERSIONS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ample 1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vert 9.4 nM into metres (nM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m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# m = 9.4 nM x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1 x 10</a:t>
            </a:r>
            <a:r>
              <a:rPr b="0" lang="en-US" sz="3200" spc="-1" strike="noStrike" u="sng" baseline="30000">
                <a:solidFill>
                  <a:srgbClr val="ffffff"/>
                </a:solidFill>
                <a:uFillTx/>
                <a:latin typeface="Tahoma"/>
              </a:rPr>
              <a:t>-9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 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 nM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dbbd71"/>
                </a:solidFill>
                <a:latin typeface="Arial"/>
              </a:rPr>
              <a:t>Key Vocabulary Word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SI uni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Metric prefi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Base uni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Metric convers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Derived uni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Derived quant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1. ONE STEP METRIC CONVERSIONS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ample 1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vert 9.4 nM into metres (nM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m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# m = 9.4 nM x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1 x 10</a:t>
            </a:r>
            <a:r>
              <a:rPr b="0" lang="en-US" sz="3200" spc="-1" strike="noStrike" u="sng" baseline="30000">
                <a:solidFill>
                  <a:srgbClr val="ffffff"/>
                </a:solidFill>
                <a:uFillTx/>
                <a:latin typeface="Tahoma"/>
              </a:rPr>
              <a:t>-9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 m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= 9.4 x 10</a:t>
            </a:r>
            <a:r>
              <a:rPr b="0" lang="en-US" sz="3200" spc="-1" strike="noStrike" baseline="30000">
                <a:solidFill>
                  <a:srgbClr val="ff0000"/>
                </a:solidFill>
                <a:latin typeface="Tahoma"/>
              </a:rPr>
              <a:t>-9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 nM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2. TWO STEP METRIC CONVERSIONS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WO PREFIXES in the question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se require the use of 2 CF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Always convert to the base unit firs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ample 2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vert 6.32 um into k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2. TWO STEP METRIC CONVERSIONS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ample 2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vert 6.32 um into km (um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m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#km = 6.32 um x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1 x 10</a:t>
            </a:r>
            <a:r>
              <a:rPr b="0" lang="en-US" sz="3200" spc="-1" strike="noStrike" u="sng" baseline="30000">
                <a:solidFill>
                  <a:srgbClr val="ffffff"/>
                </a:solidFill>
                <a:uFillTx/>
                <a:latin typeface="Tahoma"/>
              </a:rPr>
              <a:t>-6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 m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x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1 k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 um      1 x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2. TWO STEP METRIC CONVERSIONS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ample 2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vert 6.32 um into km (um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m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#km = 6.32 um x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1 x 10</a:t>
            </a:r>
            <a:r>
              <a:rPr b="0" lang="en-US" sz="3200" spc="-1" strike="noStrike" u="sng" baseline="30000">
                <a:solidFill>
                  <a:srgbClr val="ffffff"/>
                </a:solidFill>
                <a:uFillTx/>
                <a:latin typeface="Tahoma"/>
              </a:rPr>
              <a:t>-6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 m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x 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1 k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 um          1 x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= 6.32 x 10</a:t>
            </a:r>
            <a:r>
              <a:rPr b="0" lang="en-US" sz="3200" spc="-1" strike="noStrike" baseline="30000">
                <a:solidFill>
                  <a:srgbClr val="ff0000"/>
                </a:solidFill>
                <a:latin typeface="Tahoma"/>
              </a:rPr>
              <a:t>-9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 k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3. DERIVED UNIT CONVERSIONS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ample 3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vert 55.0 km/h into m/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3. DERIVED UNIT CONVERSIONS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ample 3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vert 55.0 km/h into m/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F’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1 km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60 sec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1 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 x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m       1 min        60 m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an 1: Km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m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an 2: h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min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3123720" y="160020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>
            <a:off x="5486040" y="1676520"/>
            <a:ext cx="106668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733920" y="10666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6400800" y="12193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3. DERIVED UNIT CONVERSIONS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ample 3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vert 55.0 km/h into m/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# m/s = 55.0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</a:rPr>
              <a:t>k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x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1x10</a:t>
            </a:r>
            <a:r>
              <a:rPr b="0" lang="en-US" sz="2800" spc="-1" strike="noStrike" u="sng" baseline="30000">
                <a:solidFill>
                  <a:srgbClr val="ffffff"/>
                </a:solidFill>
                <a:uFillTx/>
                <a:latin typeface="Tahoma"/>
              </a:rPr>
              <a:t>3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 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x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1 </a:t>
            </a:r>
            <a:r>
              <a:rPr b="0" lang="en-US" sz="2800" spc="-1" strike="noStrike" u="sng">
                <a:solidFill>
                  <a:srgbClr val="00ff00"/>
                </a:solidFill>
                <a:uFillTx/>
                <a:latin typeface="Tahoma"/>
              </a:rPr>
              <a:t>h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x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1 mi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     </a:t>
            </a:r>
            <a:r>
              <a:rPr b="0" lang="en-US" sz="2800" spc="-1" strike="noStrike">
                <a:solidFill>
                  <a:srgbClr val="00ff00"/>
                </a:solidFill>
                <a:latin typeface="Tahoma"/>
              </a:rPr>
              <a:t>h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1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k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60 min     60 se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= 15. 3 m/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2743200" y="3352680"/>
            <a:ext cx="53352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4343400" y="3733920"/>
            <a:ext cx="45720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2743200" y="3809520"/>
            <a:ext cx="53352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5791320" y="3276360"/>
            <a:ext cx="45720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5867280" y="3733920"/>
            <a:ext cx="45720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flipV="1">
            <a:off x="7391520" y="3200400"/>
            <a:ext cx="38088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315200" y="3581280"/>
            <a:ext cx="838080" cy="6098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572000" y="3048120"/>
            <a:ext cx="838080" cy="6094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5" name=""/>
          <p:cNvGraphicFramePr/>
          <p:nvPr/>
        </p:nvGraphicFramePr>
        <p:xfrm>
          <a:off x="0" y="1066680"/>
          <a:ext cx="9144000" cy="533376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1271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3600" spc="-1" strike="noStrike">
                          <a:solidFill>
                            <a:srgbClr val="ffffff"/>
                          </a:solidFill>
                          <a:latin typeface="Rockwell Extra Bold"/>
                          <a:ea typeface="Times New Roman"/>
                        </a:rPr>
                        <a:t>Practice task(s) to learn these new skills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. </a:t>
                      </a:r>
                      <a:r>
                        <a:rPr b="0" lang="en-CA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xercise # 15 on page 19 (Practice making CF)</a:t>
                      </a:r>
                      <a:r>
                        <a:rPr b="0" lang="en-CA" sz="3200" spc="-1" strike="noStrike" u="sng">
                          <a:solidFill>
                            <a:srgbClr val="ffffff"/>
                          </a:solidFill>
                          <a:uFillTx/>
                          <a:latin typeface="Tahoma"/>
                        </a:rPr>
                        <a:t>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. </a:t>
                      </a:r>
                      <a:r>
                        <a:rPr b="0" lang="en-CA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xercise # 16 (all) and 17 (odd letters…a,c,e…) on page 21</a:t>
                      </a:r>
                      <a:r>
                        <a:rPr b="0" lang="en-CA" sz="3200" spc="-1" strike="noStrike" u="sng">
                          <a:solidFill>
                            <a:srgbClr val="ffffff"/>
                          </a:solidFill>
                          <a:uFillTx/>
                          <a:latin typeface="Tahoma"/>
                        </a:rPr>
                        <a:t>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. </a:t>
                      </a:r>
                      <a:r>
                        <a:rPr b="0" lang="en-CA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xercise 26 – 28 on page 22</a:t>
                      </a:r>
                      <a:r>
                        <a:rPr b="0" lang="en-CA" sz="3200" spc="-1" strike="noStrike" u="sng">
                          <a:solidFill>
                            <a:srgbClr val="ffffff"/>
                          </a:solidFill>
                          <a:uFillTx/>
                          <a:latin typeface="Tahoma"/>
                        </a:rPr>
                        <a:t>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dbbd71"/>
                </a:solidFill>
                <a:latin typeface="Arial"/>
              </a:rPr>
              <a:t>2.2 and 2.3 Learning Outcome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Recognize base units and metric prefix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To create CF by comparing base units to a metric prefi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To solve simple (1 CF) and complex (2 or more CF) metric conversion proble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600200" y="-360"/>
            <a:ext cx="60199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Comic Sans MS"/>
              </a:rPr>
              <a:t>Metric Prefixes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>
            <a:alphaModFix amt="80000"/>
          </a:blip>
          <a:stretch/>
        </p:blipFill>
        <p:spPr>
          <a:xfrm>
            <a:off x="685800" y="990720"/>
            <a:ext cx="7772400" cy="5626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4952880" y="685800"/>
            <a:ext cx="3886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80880" y="792720"/>
            <a:ext cx="60962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mass of Earth = 5.9742 × 10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ahoma"/>
              </a:rPr>
              <a:t>24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kilograms (kg) = 5.9742 x 10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ahoma"/>
              </a:rPr>
              <a:t>18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Gigagr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" y="2666880"/>
            <a:ext cx="6400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We spend 1/3 of our life sleeping, that is 27.37 years, 8.6 x 10</a:t>
            </a:r>
            <a:r>
              <a:rPr b="0" lang="en-CA" sz="3200" spc="-1" strike="noStrike" baseline="30000">
                <a:solidFill>
                  <a:srgbClr val="ffffff"/>
                </a:solidFill>
                <a:latin typeface="Tahoma"/>
              </a:rPr>
              <a:t>8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 seconds or 8.63 x 10</a:t>
            </a:r>
            <a:r>
              <a:rPr b="0" lang="en-CA" sz="32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 megaseconds (863 Msec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80880" y="30492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ffffff"/>
                </a:solidFill>
                <a:uFillTx/>
                <a:latin typeface="Tahoma"/>
              </a:rPr>
              <a:t>Some more uses of metric prefix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3520" y="4724280"/>
            <a:ext cx="601956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A Sloth’s top speed is 5 m/min = 0.3 km/hr or 5000 mm/min, or 83 mm/se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6324480" y="914400"/>
            <a:ext cx="1847880" cy="18478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6248520" y="4952880"/>
            <a:ext cx="2438280" cy="183060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6019920" y="3352680"/>
            <a:ext cx="2028600" cy="13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 u="sng">
                <a:solidFill>
                  <a:srgbClr val="dbbd71"/>
                </a:solidFill>
                <a:uFillTx/>
                <a:latin typeface="Arial"/>
              </a:rPr>
              <a:t>2.2 Summery Notes</a:t>
            </a:r>
            <a:r>
              <a:rPr b="0" lang="en-CA" sz="4400" spc="-1" strike="noStrike">
                <a:solidFill>
                  <a:srgbClr val="dbbd71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" sz="2800" spc="-1" strike="noStrike">
                <a:solidFill>
                  <a:srgbClr val="ffffff"/>
                </a:solidFill>
                <a:latin typeface="Tahoma"/>
              </a:rPr>
              <a:t>International System of Units</a:t>
            </a:r>
            <a:r>
              <a:rPr b="0" lang="en" sz="2800" spc="-1" strike="noStrike">
                <a:solidFill>
                  <a:srgbClr val="ffffff"/>
                </a:solidFill>
                <a:latin typeface="Tahoma"/>
              </a:rPr>
              <a:t> (abbreviated </a:t>
            </a:r>
            <a:r>
              <a:rPr b="1" lang="en" sz="2800" spc="-1" strike="noStrike">
                <a:solidFill>
                  <a:srgbClr val="ffffff"/>
                </a:solidFill>
                <a:latin typeface="Tahoma"/>
              </a:rPr>
              <a:t>SI</a:t>
            </a:r>
            <a:r>
              <a:rPr b="0" lang="en" sz="2800" spc="-1" strike="noStrike">
                <a:solidFill>
                  <a:srgbClr val="ffffff"/>
                </a:solidFill>
                <a:latin typeface="Tahoma"/>
              </a:rPr>
              <a:t> from the French </a:t>
            </a:r>
            <a:r>
              <a:rPr b="0" i="1" lang="fr-FR" sz="2800" spc="-1" strike="noStrike">
                <a:solidFill>
                  <a:srgbClr val="ffffff"/>
                </a:solidFill>
                <a:latin typeface="Tahoma"/>
              </a:rPr>
              <a:t>le </a:t>
            </a:r>
            <a:r>
              <a:rPr b="1" i="1" lang="fr-FR" sz="28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0" i="1" lang="fr-FR" sz="2800" spc="-1" strike="noStrike">
                <a:solidFill>
                  <a:srgbClr val="ffffff"/>
                </a:solidFill>
                <a:latin typeface="Tahoma"/>
              </a:rPr>
              <a:t>ystème </a:t>
            </a:r>
            <a:r>
              <a:rPr b="1" i="1" lang="fr-FR" sz="28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i="1" lang="fr-FR" sz="2800" spc="-1" strike="noStrike">
                <a:solidFill>
                  <a:srgbClr val="ffffff"/>
                </a:solidFill>
                <a:latin typeface="Tahoma"/>
              </a:rPr>
              <a:t>nternational d'unités</a:t>
            </a:r>
            <a:r>
              <a:rPr b="0" lang="en" sz="2800" spc="-1" strike="noStrike">
                <a:solidFill>
                  <a:srgbClr val="ffffff"/>
                </a:solidFill>
                <a:latin typeface="Tahoma"/>
              </a:rPr>
              <a:t>) is the modern form of the metric syste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ccff66"/>
                </a:solidFill>
                <a:latin typeface="Tahoma"/>
              </a:rPr>
              <a:t>This system is devised around the convenience of the number ten.</a:t>
            </a:r>
            <a:r>
              <a:rPr b="0" lang="en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ffffff"/>
                </a:solidFill>
                <a:latin typeface="Tahoma"/>
              </a:rPr>
              <a:t>It is the world's most widely used system of measurement, both in everyday commerce and in scienc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99ccff"/>
                </a:solidFill>
                <a:latin typeface="Tahoma"/>
              </a:rPr>
              <a:t>Base units: a basic unit of measurement, all other units are multiples of the base un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cc66"/>
                </a:solidFill>
                <a:latin typeface="Tahoma"/>
              </a:rPr>
              <a:t>Meter-m, gram-g (kg is the actual SI unit… but in Chemistry we use the gram), second- s, mole- mol, litre- L, tonne- 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0000"/>
                </a:solidFill>
                <a:latin typeface="Tahoma"/>
              </a:rPr>
              <a:t>Prefixes are multiples of base units (see SWB for all prefixes)</a:t>
            </a: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1828800"/>
                <a:gridCol w="1295280"/>
                <a:gridCol w="1676520"/>
                <a:gridCol w="1295280"/>
                <a:gridCol w="1524240"/>
                <a:gridCol w="152388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Example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Written prefi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Prefix symbo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Uni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Unit symbol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Exponential equivalen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3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ent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et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en-CA" sz="24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ilogra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0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mo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G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0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0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icrogram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1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1828800"/>
                <a:gridCol w="1295280"/>
                <a:gridCol w="1676520"/>
                <a:gridCol w="1295280"/>
                <a:gridCol w="1524240"/>
                <a:gridCol w="1523880"/>
              </a:tblGrid>
              <a:tr h="814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Example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Written prefi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Prefix symbo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Uni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Unit symbol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Exponential equivalen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ent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et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en-CA" sz="24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ilogra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il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ra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</a:t>
                      </a:r>
                      <a:r>
                        <a:rPr b="0" lang="en-CA" sz="2800" spc="-1" strike="noStrike" baseline="30000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mo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il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o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o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</a:t>
                      </a:r>
                      <a:r>
                        <a:rPr b="0" lang="en-CA" sz="2800" spc="-1" strike="noStrike" baseline="30000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G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ig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ra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</a:t>
                      </a:r>
                      <a:r>
                        <a:rPr b="0" lang="en-CA" sz="2800" spc="-1" strike="noStrike" baseline="30000">
                          <a:solidFill>
                            <a:srgbClr val="ffffff"/>
                          </a:solidFill>
                          <a:latin typeface="Tahoma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ill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econd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</a:t>
                      </a:r>
                      <a:r>
                        <a:rPr b="0" lang="en-CA" sz="2800" spc="-1" strike="noStrike" baseline="30000">
                          <a:solidFill>
                            <a:srgbClr val="ffffff"/>
                          </a:solidFill>
                          <a:latin typeface="Tahoma"/>
                        </a:rPr>
                        <a:t>-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icrogram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ic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ram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</a:t>
                      </a:r>
                      <a:r>
                        <a:rPr b="0" lang="en-CA" sz="2800" spc="-1" strike="noStrike" baseline="30000">
                          <a:solidFill>
                            <a:srgbClr val="ffffff"/>
                          </a:solidFill>
                          <a:latin typeface="Tahoma"/>
                        </a:rPr>
                        <a:t>-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ec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etr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</a:t>
                      </a:r>
                      <a:r>
                        <a:rPr b="0" lang="en-CA" sz="2800" spc="-1" strike="noStrike" baseline="30000">
                          <a:solidFill>
                            <a:srgbClr val="ffffff"/>
                          </a:solidFill>
                          <a:latin typeface="Tahoma"/>
                        </a:rPr>
                        <a:t>-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 u="sng">
                <a:solidFill>
                  <a:srgbClr val="dbbd71"/>
                </a:solidFill>
                <a:uFillTx/>
                <a:latin typeface="Arial"/>
              </a:rPr>
              <a:t>2.3 Summery Notes</a:t>
            </a:r>
            <a:r>
              <a:rPr b="0" lang="en-CA" sz="44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1. Sample Question: How many micrometers are there in 5 c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1T04:29:07Z</dcterms:created>
  <dc:creator>owner</dc:creator>
  <dc:description/>
  <dc:language>en-US</dc:language>
  <cp:lastModifiedBy>Mullin Hales Family</cp:lastModifiedBy>
  <dcterms:modified xsi:type="dcterms:W3CDTF">2010-10-05T04:22:38Z</dcterms:modified>
  <cp:revision>103</cp:revision>
  <dc:subject/>
  <dc:title>Unit 2: Introduction to Chemistry</dc:title>
</cp:coreProperties>
</file>