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A01-9DB0-419B-BBE7-9D41DC40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AF7-2709-4261-9F25-BCE4DE82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61A-0C40-476D-9382-A0908102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390-2CDC-4180-81D8-D373AEE7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79F4-2168-4388-B46D-C670079F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A274-689C-4D58-8C88-BF9C22A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1412-40E3-4ECC-BC39-51267FA6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775D-E788-4019-8C5A-49926F83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E5E1-98D9-4205-AF5A-35F8DDE2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A050-5911-43B0-99AB-1E825A75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99CE-6015-4E74-BEDA-58B2F5E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D14-2AC5-47AB-A294-9462EA18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873E-7EA8-441E-AF80-D3610ACC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9BBA-D6F2-405A-9474-65003926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BB9D-7688-41B1-9C6A-03F4FD3D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E26D-EB61-4532-8F56-9BC875A2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32C8-9447-474D-B3BD-3A78C8D6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EAA-DF06-4A6F-B41B-BD31186B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B44-B591-4D91-AA3D-6E23AC9A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394-D19D-43A9-8083-B81541D0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634-286F-4AC3-982F-5146EC10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C11-3673-44D9-8ACF-BAA7D0D7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E0B-CF68-45C5-AA6B-0F3E7D1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FE4-E65F-4296-BCC6-1C1703BC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942D-99E4-4BB0-B2EA-E2EE66E388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71C0-6720-4C70-BC30-7B3E60AEA1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Reading Measurements and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Experimental Uncertainty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(Part 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3657600" y="1219320"/>
            <a:ext cx="129528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295280"/>
            <a:ext cx="1447920" cy="297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Sig F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38862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04812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Cambria"/>
              </a:rPr>
              <a:t>Uncertainty</a:t>
            </a:r>
            <a:br>
              <a:rPr sz="8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not just a feeling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We would write this a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ahoma"/>
              </a:rPr>
              <a:t>42.6 +/- 0.1 m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905120"/>
          <a:ext cx="914400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 flipV="1">
            <a:off x="4191120" y="3733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umber would this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82200" cy="1738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2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 flipV="1">
            <a:off x="3657240" y="49525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666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= 42.6 to 42.8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1917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 that a measured temperature is 39.6ºC and the uncertainty is ± 0.1ºC. We write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NGE for the above measurement i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.5 – 39.7º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609480"/>
          <a:ext cx="9144000" cy="530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43-47 page 29 (Accurate and precise, certain digits and measurement/counting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48 page 32, #49 page 33 and #50 page 34 (practice reading scale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1 and #52 page 35 and finally Exercise # 53 and 54 page 36</a:t>
                      </a: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1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earn how to find and report the uncertainty associated with each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if a measurement is accurate and/or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certain and uncertain digits in a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ing 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Part 1 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act or Definite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ccu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re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ertain verses uncertain dig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perimental 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Arial"/>
              </a:rPr>
              <a:t>2.5 Part 1 Summary Notes (Reading Measurements and Experimental Uncertainty)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 Write the following measurement and its uncertainties in the correct form- a balance gives the measurement of 51.32g with an uncertainty of 0.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51.32 +/- 0.0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The correct volume of a metal is 18.72 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several readings of 17.521 would be precise but NOT 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reading of 18 would be accurate but NOT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Summary Not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 a small # of objects = exact or defin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asuring mass, time, volume, length = measured and are never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l measurements have uncertainty associated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 is a measured or MEANINGFUL digit (see SWB page 27 for examp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Accurate and Precise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= measure that is close to the correct or accepted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= reproducible measurement, more significant digits/more decimal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Comic Sans MS"/>
              </a:rPr>
              <a:t>Can you hit the bull's-ey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they comp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n something be precise but not accurate (or vice versa)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recise, but not accurate there is a systematic error or 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Ex. you get the same wrong answer over and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ccurate but not precise, experimenter is being in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For examp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ssume the CORRECT measurement of a pencil is 27.3200 cm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80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6:33Z</dcterms:modified>
  <cp:revision>84</cp:revision>
  <dc:subject/>
  <dc:title>Unit 2: Introduction to Chemistry</dc:title>
</cp:coreProperties>
</file>