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whoosh.wav" ContentType="audio/x-wav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4F5-AA61-4E91-ACB4-096B331C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A63-BF47-445D-A5D4-4EF28E44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7BA9-773B-44B9-81F6-BE903CDA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E35-67A4-48A4-AC52-22D46807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A1E5-1727-4D48-8D1D-2B3AD5CA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136E-4514-476D-8DB8-9647B98B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CBE8-D51F-4E34-AA31-E4838F8E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1F4C-3A78-401D-8854-181E1825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2A60-BA7E-479A-91EB-F1C80C5C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0E55-3EE4-4082-8CA4-07277021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62F0-FE47-4F5B-8FA9-D44CF01F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6D59-97D6-42F0-9310-99538A30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576F-CF5D-4404-BD8D-68A9E3B7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39ED-5C7E-4254-AA4B-86035A1D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22ED-EB7F-4511-985E-23B85FB8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DFEF-D8E3-4AC7-AE59-186796A2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6759-F678-4C2E-8DDF-42353C8E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B1F-BB5E-47DE-9051-833DE595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193-89BE-4F99-A944-3048A5C8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6F37-D9D8-483C-A967-31DF97EA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6E98-5E43-4CA3-BDA0-B0205550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887-7C0F-4F86-AE81-7691BFF9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0E8-02F5-4F9E-A10D-7BDBF414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822D-6DD2-4C57-AE35-126A070F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49E7-172B-428F-99AC-701064752B5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820A-6676-4ABF-8BFD-A6673E84BE4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Reading Measurements and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Experimental Uncertainty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(Part 1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2480" y="2286000"/>
            <a:ext cx="8080560" cy="3460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>
            <a:off x="3657600" y="1219320"/>
            <a:ext cx="129528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81280" y="1295280"/>
            <a:ext cx="1447920" cy="297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3049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TS of Sig Fi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388620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304812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dbbd71"/>
                </a:solidFill>
                <a:latin typeface="Cambria"/>
              </a:rPr>
              <a:t>Uncertainty</a:t>
            </a:r>
            <a:br>
              <a:rPr sz="8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not just a feeling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We would write this as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ahoma"/>
              </a:rPr>
              <a:t>42.6 +/- 0.1 m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other Exampl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1905120"/>
          <a:ext cx="914400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 flipV="1">
            <a:off x="4191120" y="3733920"/>
            <a:ext cx="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257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number would this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re Exampl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882200" cy="1738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23880" y="3886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2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3809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3886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3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certainty in Measuremen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uncertainty is always in 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st dig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the one that was estima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can be expressed as part of th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42.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0.1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293840" cy="2081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H="1" flipV="1">
            <a:off x="3657240" y="49525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5638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ertainty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certainty in Measuremen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uncertainty is always in 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st dig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the one that was estima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can be expressed as part of th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42.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0.1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293840" cy="20811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6668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= 42.6 to 42.8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10480" cy="1917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3049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ume that a measured temperature is 39.6ºC and the uncertainty is ± 0.1ºC. We write it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35812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ANGE for the above measurement i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9.5 – 39.7º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0" y="609480"/>
          <a:ext cx="9144000" cy="5305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18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43-47 page 29 (Accurate and precise, certain digits and measurement/counting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Exercise #48 page 32, #49 page 33 and #50 page 34 (practice reading scales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Exercise # 51 and #52 page 35 and finally Exercise # 53 and 54 page 36</a:t>
                      </a: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Part 1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earn how to find and report the uncertainty associated with each measu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e if a measurement is accurate and/or 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e certain and uncertain digits in a measu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ing experimental uncertai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Part 1 Vocabulary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oun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Exact or Definite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ncertai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ccu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rec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ertain verses uncertain dig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Experimental uncertai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dbbd71"/>
                </a:solidFill>
                <a:latin typeface="Arial"/>
              </a:rPr>
              <a:t>2.5 Part 1 Summary Notes (Reading Measurements and Experimental Uncertainty)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Tahoma"/>
              </a:rPr>
              <a:t>Sample Question 1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:  Write the following measurement and its uncertainties in the correct form- a balance gives the measurement of 51.32g with an uncertainty of 0.1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51.32 +/- 0.01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Tahoma"/>
              </a:rPr>
              <a:t>Sample Question 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: The correct volume of a metal is 18.72 c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several readings of 17.521 would be precise but NOT accu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reading of 18 would be accurate but NOT 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Summary Not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ounting a small # of objects = exact or defin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asuring mass, time, volume, length = measured and are never ex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ll measurements have uncertainty associated with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 is a measured or MEANINGFUL digit (see SWB page 27 for examp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Accurate and Precise: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ccurate= measure that is close to the correct or accepted va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ecise= reproducible measurement, more significant digits/more decimal pl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705720" y="167652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1219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2362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15238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82880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hree targets with three arrows each to sho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500"/>
                </a:solidFill>
                <a:latin typeface="Comic Sans MS"/>
              </a:rPr>
              <a:t>Can you hit the bull's-ey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Both accurate and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6576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Precise but not acc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Neither accurate nor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3657600"/>
            <a:ext cx="19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do they comp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an something be precise but not accurate (or vice versa)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precise, but not accurate there is a systematic error or b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ahoma"/>
              </a:rPr>
              <a:t>Ex. you get the same wrong answer over and 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ccurate but not precise, experimenter is being inconsis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For example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Assume the CORRECT measurement of a pencil is 27.3200 cm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0805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46:33Z</dcterms:modified>
  <cp:revision>84</cp:revision>
  <dc:subject/>
  <dc:title>Unit 2: Introduction to Chemistry</dc:title>
</cp:coreProperties>
</file>