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EFC-C5C3-4DFC-B257-F78E268E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DBD-4444-4010-885A-7B5AA829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323-4FC5-41FE-8089-EB2FD5FC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CEA-D353-4F9E-B302-7520AFC3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844D-48AD-419F-A3DB-6AF3CD8C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8DCB-D3C2-4399-9CD8-E99730A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A1A-EB2B-4BA4-AC07-215CC29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627E-16A6-4BE2-840C-9243E260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3F16-24F7-4AF3-BBD2-238AA4B7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645D-0A86-47CD-B5B1-AC2E3EA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331D-AAD8-4B62-A394-895CC77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2C9-35FC-412C-8CDD-5E57413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E4E8-57C8-444E-BCA4-B319125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8675-1C97-4617-B716-3031FEC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375E-6063-45F8-BBE0-6C4BCF9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5FDB-E63E-425D-A662-BF2ADB6C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317-EC61-4C04-AAAC-3A6AA1D8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E77-09C6-47C8-9971-E0843095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427-64CC-4FD3-B814-EE4217AD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102-4AD5-4109-9CAA-1149C28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6FD-A38F-49F0-9267-1D05F0BE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892-24C9-494A-91FC-A441D75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8E7-213C-4D29-A06D-7906F786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3C3-42B9-4FF4-A9B8-21C98BF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D58D-DAC6-44F0-872E-E773C82477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8E5D-8AD0-47F3-BE96-33C9A1435E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82200" cy="1738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ct or Definit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 or defin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and are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6:33Z</dcterms:modified>
  <cp:revision>84</cp:revision>
  <dc:subject/>
  <dc:title>Unit 2: Introduction to Chemistry</dc:title>
</cp:coreProperties>
</file>