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whoosh.wav" ContentType="audio/x-wav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embeddings/oleObject1.pptx" ContentType="application/vnd.openxmlformats-officedocument.presentationml.presentation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E62E-8AFD-444D-996C-E9B0FD034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2189-2AD0-459B-9CC8-2EB3A3A0D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EDD6-A2FC-43AD-8D00-C0951E6FE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0333-56D4-47D5-A94F-FF49DFD00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31AAB-3F02-4BD1-9EC0-31E728885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4C9E4-87C9-4D7A-B12C-F77D0DD84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B970F-0698-4A6C-A2D3-6838067AD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5496D-DBB7-4446-98F8-2893A2AB2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116F8-ED57-475C-8F24-B6FE10A8B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C7DFC-0FE7-4BA6-B7FA-8D69CA1EE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C61EF-B85F-4AC4-8C26-BADF7A5D8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10C6-A7DB-445F-B5FD-E8332093A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27699-1D7F-4603-B841-D3105115C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B9564-0A91-4086-ACC2-E5C774F6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4F6CE-0966-4C82-917D-47C9F3B89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C9846-149B-4F13-959F-44941DF99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C95A9-5640-4944-82B4-34106B7BB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A6E6-4C22-4F78-BCB8-7D779F839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DAC5-384B-4993-B67E-36F77F328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96F7-7DE7-4DFE-97B3-5FEACFD0D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200E-A030-4E86-9707-D5B461125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19C3-937F-4656-B6F6-D4D7E4B0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7E3D-4E93-4E85-AE46-39AB84764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3162-0317-481F-912A-D0084B18E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E6AA9-7979-4428-B955-BC1C74297B3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6E5C7-CDD0-4A3C-9825-51414606A89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2.5 </a:t>
            </a:r>
            <a:br>
              <a:rPr sz="4400"/>
            </a:b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Reading Measurements and </a:t>
            </a:r>
            <a:br>
              <a:rPr sz="4400"/>
            </a:b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Experimental Uncertainty </a:t>
            </a:r>
            <a:br>
              <a:rPr sz="4400"/>
            </a:b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(Part 1)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82480" y="2286000"/>
            <a:ext cx="8080560" cy="34606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 flipH="1">
            <a:off x="3657600" y="1219320"/>
            <a:ext cx="1295280" cy="1981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3581280" y="1295280"/>
            <a:ext cx="1447920" cy="2971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029200" y="304920"/>
            <a:ext cx="198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TS of Sig Fi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086600" y="3886200"/>
            <a:ext cx="152388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57800" y="3048120"/>
            <a:ext cx="152388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dbbd71"/>
                </a:solidFill>
                <a:latin typeface="Cambria"/>
              </a:rPr>
              <a:t>Uncertainty</a:t>
            </a:r>
            <a:br>
              <a:rPr sz="8000"/>
            </a:br>
            <a:r>
              <a:rPr b="0" lang="en-US" sz="3600" spc="-1" strike="noStrike">
                <a:solidFill>
                  <a:srgbClr val="dbbd71"/>
                </a:solidFill>
                <a:latin typeface="Arial"/>
              </a:rPr>
              <a:t>(not just a feeling)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24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0" y="0"/>
          <a:ext cx="9144000" cy="6826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2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We would write this as…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ff"/>
                </a:solidFill>
                <a:latin typeface="Tahoma"/>
              </a:rPr>
              <a:t>42.6 +/- 0.1 m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513000" y="333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Another Example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0" y="1905120"/>
          <a:ext cx="9144000" cy="312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05120"/>
                    <a:ext cx="9144000" cy="31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 flipV="1">
            <a:off x="4191120" y="3733920"/>
            <a:ext cx="0" cy="83808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24080" y="525780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number would this b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513000" y="333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More Examples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7882200" cy="17384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523880" y="38862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.2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781680" y="380988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705720" y="38862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.37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13000" y="333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Uncertainty in Measurements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1518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uncertainty is always in the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ast digit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(the one that was estimated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is can be expressed as part of the numb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. 42.7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0.1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6629400" y="4114800"/>
            <a:ext cx="1293840" cy="20811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 flipH="1" flipV="1">
            <a:off x="3657240" y="4952520"/>
            <a:ext cx="22860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581280" y="563868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certainty te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13000" y="333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Uncertainty in Measurements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1518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uncertainty is always in the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ast digit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(the one that was estimated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is can be expressed as part of the numb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. 42.7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0.1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6629400" y="4114800"/>
            <a:ext cx="1293840" cy="20811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066680" y="52578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nge = 42.6 to 42.8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8610480" cy="19177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228600" y="30492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sume that a measured temperature is 39.6ºC and the uncertainty is ± 0.1ºC. We write it 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80880" y="358128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RANGE for the above measurement is 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9.5 – 39.7º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0" y="609480"/>
          <a:ext cx="9144000" cy="530568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118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600" spc="-1" strike="noStrike">
                          <a:solidFill>
                            <a:srgbClr val="ffffff"/>
                          </a:solidFill>
                          <a:latin typeface="Rockwell Extra Bold"/>
                          <a:ea typeface="Times New Roman"/>
                        </a:rPr>
                        <a:t>Practice task(s) to learn these new skill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 Exercise 43-47 page 29 (Accurate and precise, certain digits and measurement/counting)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 Exercise #48 page 32, #49 page 33 and #50 page 34 (practice reading scales)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 Exercise # 51 and #52 page 35 and finally Exercise # 53 and 54 page 36</a:t>
                      </a:r>
                      <a:r>
                        <a:rPr b="0" lang="en-CA" sz="36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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2.5 Part 1 Learning Outcom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Learn how to find and report the uncertainty associated with each measur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Determine if a measurement is accurate and/or preci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Determine certain and uncertain digits in a measur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Determining experimental uncertain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dbbd71"/>
                </a:solidFill>
                <a:latin typeface="Arial"/>
              </a:rPr>
              <a:t>Part 1 Vocabulary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Coun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Exact or Definite numb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Uncertain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Significant fig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Accur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Preci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Certain verses uncertain digi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Experimental uncertain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dbbd71"/>
                </a:solidFill>
                <a:latin typeface="Arial"/>
              </a:rPr>
              <a:t>2.5 Part 1 Summary Notes (Reading Measurements and Experimental Uncertainty):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ffffff"/>
                </a:solidFill>
                <a:uFillTx/>
                <a:latin typeface="Tahoma"/>
              </a:rPr>
              <a:t>Sample Question 1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:  Write the following measurement and its uncertainties in the correct form- a balance gives the measurement of 51.32g with an uncertainty of 0.1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51.32 +/- 0.01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ffffff"/>
                </a:solidFill>
                <a:uFillTx/>
                <a:latin typeface="Tahoma"/>
              </a:rPr>
              <a:t>Sample Question 2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: The correct volume of a metal is 18.72 cm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A several readings of 17.521 would be precise but NOT accur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A reading of 18 would be accurate but NOT preci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Summary Notes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counting a small # of objects = exact or defini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measuring mass, time, volume, length = measured and are never exa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All measurements have uncertainty associated with th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Significant figure is a measured or MEANINGFUL digit (see SWB page 27 for exampl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dbbd71"/>
                </a:solidFill>
                <a:latin typeface="Arial"/>
              </a:rPr>
              <a:t>Accurate and Precise: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Accurate= measure that is close to the correct or accepted valu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Precise= reproducible measurement, more significant digits/more decimal pla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514600" y="1676520"/>
            <a:ext cx="1676520" cy="16761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648320" y="1676520"/>
            <a:ext cx="1676160" cy="16761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6705720" y="1676520"/>
            <a:ext cx="1676160" cy="16761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666880" y="1752480"/>
            <a:ext cx="685800" cy="609840"/>
          </a:xfrm>
          <a:prstGeom prst="line">
            <a:avLst/>
          </a:prstGeom>
          <a:ln w="4140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590920" y="1752480"/>
            <a:ext cx="685800" cy="609840"/>
          </a:xfrm>
          <a:prstGeom prst="line">
            <a:avLst/>
          </a:prstGeom>
          <a:ln w="4140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666880" y="1752480"/>
            <a:ext cx="685800" cy="609840"/>
          </a:xfrm>
          <a:prstGeom prst="line">
            <a:avLst/>
          </a:prstGeom>
          <a:ln w="4140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495680" y="1447920"/>
            <a:ext cx="685800" cy="609480"/>
          </a:xfrm>
          <a:prstGeom prst="line">
            <a:avLst/>
          </a:prstGeom>
          <a:ln w="4140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0" y="1447920"/>
            <a:ext cx="685800" cy="609480"/>
          </a:xfrm>
          <a:prstGeom prst="line">
            <a:avLst/>
          </a:prstGeom>
          <a:ln w="4140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495680" y="1447920"/>
            <a:ext cx="685800" cy="609480"/>
          </a:xfrm>
          <a:prstGeom prst="line">
            <a:avLst/>
          </a:prstGeom>
          <a:ln w="4140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391520" y="1219320"/>
            <a:ext cx="685800" cy="609480"/>
          </a:xfrm>
          <a:prstGeom prst="line">
            <a:avLst/>
          </a:prstGeom>
          <a:ln w="4140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315200" y="2362320"/>
            <a:ext cx="685800" cy="609480"/>
          </a:xfrm>
          <a:prstGeom prst="line">
            <a:avLst/>
          </a:prstGeom>
          <a:ln w="4140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553080" y="1523880"/>
            <a:ext cx="685800" cy="609840"/>
          </a:xfrm>
          <a:prstGeom prst="line">
            <a:avLst/>
          </a:prstGeom>
          <a:ln w="4140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1828800"/>
            <a:ext cx="2057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Three targets with three arrows each to shoo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" y="4572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500"/>
                </a:solidFill>
                <a:latin typeface="Comic Sans MS"/>
              </a:rPr>
              <a:t>Can you hit the bull's-ey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514600" y="3657600"/>
            <a:ext cx="169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mic Sans MS"/>
              </a:rPr>
              <a:t>Both accurate and preci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724280" y="365760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mic Sans MS"/>
              </a:rPr>
              <a:t>Precise but not accur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781680" y="3657600"/>
            <a:ext cx="169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mic Sans MS"/>
              </a:rPr>
              <a:t>Neither accurate nor preci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3657600"/>
            <a:ext cx="199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ow do they compar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" presetSubtype="9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" nodeType="afterEffect" fill="hold" presetClass="entr" presetID="2" presetSubtype="9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2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4000"/>
                            </p:stCondLst>
                            <p:childTnLst>
                              <p:par>
                                <p:cTn id="127" nodeType="afterEffect" fill="hold" presetClass="entr" presetID="2" presetSubtype="9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0"/>
                            </p:stCondLst>
                            <p:childTnLst>
                              <p:par>
                                <p:cTn id="132" nodeType="afterEffect" fill="hold" presetClass="entr" presetID="2" presetSubtype="9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6000"/>
                            </p:stCondLst>
                            <p:childTnLst>
                              <p:par>
                                <p:cTn id="137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7500"/>
                            </p:stCondLst>
                            <p:childTnLst>
                              <p:par>
                                <p:cTn id="142" nodeType="afterEffect" fill="hold" presetClass="entr" presetID="2" presetSubtype="9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8500"/>
                            </p:stCondLst>
                            <p:childTnLst>
                              <p:par>
                                <p:cTn id="147" nodeType="afterEffect" fill="hold" presetClass="entr" presetID="2" presetSubtype="9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95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513000" y="333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Can something be precise but not accurate (or vice versa)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ES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precise, but not accurate there is a systematic error or bi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66"/>
                </a:solidFill>
                <a:latin typeface="Tahoma"/>
              </a:rPr>
              <a:t>Ex. you get the same wrong answer over and ov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accurate but not precise, experimenter is being inconsist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7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For example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Assume the CORRECT measurement of a pencil is 27.3200 cm.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609480" y="2286000"/>
            <a:ext cx="8080560" cy="34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04:29:07Z</dcterms:created>
  <dc:creator>owner</dc:creator>
  <dc:description/>
  <dc:language>en-US</dc:language>
  <cp:lastModifiedBy>Mullin Hales Family</cp:lastModifiedBy>
  <dcterms:modified xsi:type="dcterms:W3CDTF">2010-10-12T04:46:33Z</dcterms:modified>
  <cp:revision>84</cp:revision>
  <dc:subject/>
  <dc:title>Unit 2: Introduction to Chemistry</dc:title>
</cp:coreProperties>
</file>