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2F6-7943-476A-81EB-D68C53AB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C5B-5BA1-43D5-8EF9-BEDFD97D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5A7-ECC2-4F29-9AC8-AB8C9F39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88E-1461-4D7D-BE7E-3B6510CB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0D6C-FB13-4485-9141-CB223511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9D82-FDB8-4DA2-BA21-7D14910F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FDF9-B936-4891-B294-4983EA48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0621-9BA1-4B4A-AA9A-D417C873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F53D-0F60-4353-A4D7-83161706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2F7B-8C2F-450A-BEBA-1F49032D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BF1D-4A54-4D14-A90A-E150A220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823-8F44-47F8-A029-55629EA1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5181-8640-4001-96B7-A1F7643B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7DE2-AACD-448B-A62C-854C75BB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C4E1-DCA0-4D61-982D-27E7D6B3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C8F6-6D3A-42B0-8590-668A5582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F0E1-75C9-4FCF-B3AD-35644A0B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148-7B92-46E8-B8B9-1A0CA07C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273-0D79-4F9C-9F19-95723B89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2275-F22B-430E-AC97-7C0C070A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41E-0EAC-406B-85B4-30A0A730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643-D222-4C3B-A58C-FBF5A228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B90-062F-4115-9E17-D3838520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3F89-DD2D-478C-B363-2EAFD30A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8E13-69D4-4D45-A4A3-25F40D977FA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CD32-9A19-46A4-928E-E7807AC36E2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Reading Measurements and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Experimental Uncertainty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(Part 1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82480" y="2286000"/>
            <a:ext cx="8080560" cy="346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H="1">
            <a:off x="3657600" y="1219320"/>
            <a:ext cx="129528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581280" y="1295280"/>
            <a:ext cx="1447920" cy="297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3049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S of Sig Fi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88620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304812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dbbd71"/>
                </a:solidFill>
                <a:latin typeface="Cambria"/>
              </a:rPr>
              <a:t>Uncertainty</a:t>
            </a:r>
            <a:br>
              <a:rPr sz="8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not just a feeling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We would write this a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ahoma"/>
              </a:rPr>
              <a:t>42.6 +/- 0.1 m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other Exampl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905120"/>
          <a:ext cx="914400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 flipV="1">
            <a:off x="4191120" y="3733920"/>
            <a:ext cx="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257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number would this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Exampl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20640" y="1785960"/>
            <a:ext cx="7881840" cy="1738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23880" y="3886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2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8168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3886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3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H="1" flipV="1">
            <a:off x="3657240" y="49525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5638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ertainty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6668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= 42.6 to 42.8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1917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28600" y="304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e that a measured temperature is 39.6ºC and the uncertainty is ± 0.1ºC. We write it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5812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ANGE for the above measurement i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9.5 – 39.7º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0" y="609480"/>
          <a:ext cx="9144000" cy="5305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43-47 page 29 (Accurate and precise, certain digits and measurement/counting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48 page 32, #49 page 33 and #50 page 34 (practice reading scales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1 and #52 page 35 and finally Exercise # 53 and 54 page 36</a:t>
                      </a: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Part 1 Vocabulary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oun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x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ignificant fig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ccu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ertain verses uncertain dig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fines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xperimental 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1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earn how to find and report the uncertainty associated with each measu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if a measurement is accurate and/or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certain and uncertain digits in a meas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ing experimental 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bbd71"/>
                </a:solidFill>
                <a:latin typeface="Arial"/>
              </a:rPr>
              <a:t>2.5 Part 1 Summary Notes (Reading Measurements and Experimental Uncertainty)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1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 Write the following measurement and its uncertainties in the correct form- a balance gives the measurement of 51.32g with an uncertainty of 0.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51.32 +/- 0.0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The correct volume of a metal is 18.72 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several readings of 17.521 would be precise but NOT accu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reading of 18 would be accurate but NOT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Summary Not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unting a small # of objects = ex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asuring mass, time, volume, length = measured = never ex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ll measurements have uncertainty associated with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 is a measured or MEANINGFUL digit (see SWB page 27 for examp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Accurate and Precise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ccurate= measure that is close to the correct or accepted 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cise= reproducible measurement, more significant digits/more decimal pl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705720" y="16765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1219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2362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15238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8288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ree targets with three arrows each to sho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500"/>
                </a:solidFill>
                <a:latin typeface="Comic Sans MS"/>
              </a:rPr>
              <a:t>Can you hit the bull's-ey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Both accurate and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Precise but not acc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Neither accurate nor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365760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do they comp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69280" y="5257800"/>
            <a:ext cx="67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 you define accuracy and preci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50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an something be precise but not accurate (or vice versa)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recise, but not accurate there is a systematic error or b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Ex. you get the same wrong answer over and 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ccurate but not precise, experimenter is being inconsis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For exampl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Assume the CORRECT measurement of a pencil is 27.3200 cm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2480" y="2286000"/>
            <a:ext cx="80805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05T04:32:00Z</dcterms:modified>
  <cp:revision>80</cp:revision>
  <dc:subject/>
  <dc:title>Unit 2: Introduction to Chemistry</dc:title>
</cp:coreProperties>
</file>