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873-7D63-47BC-B6D9-719F744F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9C9-91CE-4D22-8872-60B8CA0C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A8E-7FCF-4B30-BC7F-AECE823B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5CA-680B-4719-BA74-7AD0D157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38E8-5232-48E7-9D40-BF542452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DF0-AF83-4D73-AF82-0B070D39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FE73-5DC9-4D51-9FA9-72C38F9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5AF0-E706-421B-8AF6-24858D76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F4CA-7E3A-4901-B6EA-485C5F6C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42BB-A626-4861-B77C-A3B4DAF5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6A64-204A-456F-A3B9-C5991DD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4CD-8D78-450D-9E8F-16C667F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37B9-76CF-4E56-901E-D6DFDF4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51BE-503B-4200-88F5-FACE5F1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EAEB-2DC5-419C-B131-5DCFF2C4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36D6-6D81-4B6E-94ED-2605F51A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260B-B2E3-468C-A0FC-E113E89D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5F8-7225-44DB-A3E0-1D4E1B3F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562-AF9F-4CC9-A94A-C07060D5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240-ECF5-43A6-9474-483D94A2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73A-AC5C-4DCF-99A2-90FDCCD3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DC3-5301-4835-A764-65FB151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68B-0C33-433D-993E-C3BBB5D0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2CF-DE2F-4348-9040-E2600B1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9930-22A0-4FFD-89F0-42FE4885F3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029-496B-4774-A00C-BC009B6602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0640" y="1785960"/>
            <a:ext cx="7881840" cy="1738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e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=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69280" y="525780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 you define accuracy and preci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2:00Z</dcterms:modified>
  <cp:revision>80</cp:revision>
  <dc:subject/>
  <dc:title>Unit 2: Introduction to Chemistry</dc:title>
</cp:coreProperties>
</file>