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A0A-8627-4E9E-8406-69BAEE48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9B6-839E-44E4-A80B-CFCAD05F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D35-33F3-401E-A4B2-8332A339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B68-37BC-46EA-B3B3-94047DC8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8EF2-9773-4935-B742-26989A03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C75F-B997-4ABE-B869-5061623D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2B9C-13E4-4FCC-957D-A5647D3C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FC4B-A877-44AE-B23A-11D956EE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6BC9-1BEB-4D6B-8DEF-5AFA46D4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737A-355B-4853-83FC-C69AA3C5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FB13-2CEE-4BFF-BE84-5652D765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A0A-2DAF-434A-B11F-2C5D7D89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F94D-23B8-4906-A97A-15E453AD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7E2A-4E3E-4EDD-9D3D-1731BC60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824E-12CE-4663-8061-34C7AF6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CA6-84D6-4A2A-ABC7-04CB9EE7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302F-E11A-4537-9506-5B5D4140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DBE-614C-4FFF-86BC-03EE6254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F69-1048-4205-8D3D-F9F81FAA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533-F182-4558-B363-9DECAD93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318-9B57-46AF-8451-E2E08A80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BA2-00DC-442D-8FD0-0D99233F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481-EECA-4C28-9BB9-DB97479C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B29-8A33-4111-9A83-25A16798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7989-FA4D-42D4-B9F2-E0DCF2B6CD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6D31-69A4-42C9-AC2D-326D97FC2C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Reading Measurements and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Experimental Uncertainty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(Part 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>
            <a:off x="3657600" y="1219320"/>
            <a:ext cx="129528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81280" y="1295280"/>
            <a:ext cx="1447920" cy="297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Sig F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04812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Cambria"/>
              </a:rPr>
              <a:t>Uncertainty</a:t>
            </a:r>
            <a:br>
              <a:rPr sz="8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not just a feeling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We would write this a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ahoma"/>
              </a:rPr>
              <a:t>42.6 +/- 0.1 m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905120"/>
          <a:ext cx="914400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 flipV="1">
            <a:off x="4191120" y="3733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umber would this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20640" y="1785960"/>
            <a:ext cx="7881840" cy="1738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238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2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H="1" flipV="1">
            <a:off x="3657240" y="49525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666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= 42.6 to 42.8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1917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 that a measured temperature is 39.6ºC and the uncertainty is ± 0.1ºC. We write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NGE for the above measurement i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.5 – 39.7º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609480"/>
          <a:ext cx="9144000" cy="530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43-47 page 29 (Accurate and precise, certain digits and measurement/counting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48 page 32, #49 page 33 and #50 page 34 (practice reading scale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1 and #52 page 35 and finally Exercise # 53 and 54 page 36</a:t>
                      </a: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Part 1 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u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x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ignificant fig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ertain verses uncertain dig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fines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1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earn how to find and report the uncertainty associated with each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if a measurement is accurate and/or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certain and uncertain digits in a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ing 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Arial"/>
              </a:rPr>
              <a:t>2.5 Part 1 Summary Notes (Reading Measurements and Experimental Uncertainty)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 Write the following measurement and its uncertainties in the correct form- a balance gives the measurement of 51.32g with an uncertainty of 0.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51.32 +/- 0.0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The correct volume of a metal is 18.72 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several readings of 17.521 would be precise but NOT 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reading of 18 would be accurate but NOT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Summary Not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 a small # of objects =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asuring mass, time, volume, length = measured = never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l measurements have uncertainty associated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 is a measured or MEANINGFUL digit (see SWB page 27 for examp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Accurate and Precise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= measure that is close to the correct or accepted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= reproducible measurement, more significant digits/more decimal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Comic Sans MS"/>
              </a:rPr>
              <a:t>Can you hit the bull's-ey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they comp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69280" y="5257800"/>
            <a:ext cx="67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 you define accuracy and preci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5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n something be precise but not accurate (or vice versa)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recise, but not accurate there is a systematic error or 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Ex. you get the same wrong answer over and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ccurate but not precise, experimenter is being in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For examp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ssume the CORRECT measurement of a pencil is 27.3200 cm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32:00Z</dcterms:modified>
  <cp:revision>80</cp:revision>
  <dc:subject/>
  <dc:title>Unit 2: Introduction to Chemistry</dc:title>
</cp:coreProperties>
</file>