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EAB-0850-459F-8778-27C9B8A7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2DB-8C4B-406F-BAD1-0433C13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5A7-EDA2-4134-A493-AD55EEA7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1F7-D544-4B2C-BFA1-F456740A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8BB-1864-4F5B-85E3-CB14D128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3BC-FD05-4E05-8AD1-1DA76683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56DD-5E1F-4EDF-9C05-EEF8945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4656-2E14-4BCE-84A5-A59430F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042-F4EB-4943-8766-2E65F760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E83A-DA24-4D71-A6C4-445967E4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8832-239D-4D4A-AAFD-2918369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453-EFA6-431E-90D8-0F48FF0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824D-C1EB-4810-B912-4496B65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179C-C579-44DE-9D71-16F511B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3CE-A8BD-48A9-9BF6-2AC3D09F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9C9-FB09-4553-94ED-EEF9567D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A36-0017-4814-997E-AC733671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645-62D9-4C85-A7B4-7A7BB0E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523-D648-433B-9E2F-5AC0F19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123-0111-4EF5-9865-E7E5E35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18E-712E-4A71-8DBE-4C24F97A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966-4F0B-49F8-A997-A61467A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68A-06F5-4D67-866B-8787E8E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787-2E3C-4446-AE8D-B32E634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F3AA-3C26-467C-8E6E-56D428CF0D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010-B07B-4BA8-8697-F9BF9DB343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0640" y="1785960"/>
            <a:ext cx="7881840" cy="1738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e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=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69280" y="525780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 you define accuracy and preci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2:00Z</dcterms:modified>
  <cp:revision>80</cp:revision>
  <dc:subject/>
  <dc:title>Unit 2: Introduction to Chemistry</dc:title>
</cp:coreProperties>
</file>