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7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18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45C-7BDF-46BD-B9D2-0085D447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85E6-DE45-4FF2-B64F-68A5F0F1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DF2-74BC-48F8-A639-805CE8DC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0A9-0CE6-451A-8F77-64CE1A44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E598-E0F1-4819-9482-447BF0E2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0A24-76E7-484B-9799-7A04147F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22EC-17A6-4319-9A2A-2319DB3E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2278-85C5-40D4-A446-6D5E058C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B284-68C5-4FE2-A985-7662188F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7489-0177-46C9-B817-BFFF7FB2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97E2-FDE0-4858-8CD9-35A5A4F7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22E-4893-48FF-8157-0A43A9C1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BBFB-567C-41ED-95D3-A7AD06CA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9B60-9418-4659-BCBC-B5ABAFF5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22DC-971B-457D-B075-1836FF64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F434-C922-4F2B-9760-B67F88BD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E182-1DCA-4BED-AC56-BC7D707E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871-DDE8-494A-8857-414352C8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4CA-E3AB-48B3-95F0-A793EFE8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24D-D6C0-4DB1-AE81-AE66F37D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C78-CC5B-46DB-9391-4DCF6284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148-F1F4-41DE-99BE-B8476CD0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A9B-8626-42A9-BC46-96D663C1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65D-B70B-4B79-AB93-7350BF24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F817-9378-4906-BAD8-1FFE8FEE60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5A3A-CACC-475A-BF7F-039BD48047C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uVPkBb-z2I&amp;feature=channe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B2szfcwu1A&amp;feature=channe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dbbd71"/>
                </a:solidFill>
                <a:latin typeface="Arial"/>
              </a:rPr>
              <a:t>Counting Significant Figures and </a:t>
            </a:r>
            <a:br>
              <a:rPr sz="4800"/>
            </a:br>
            <a:r>
              <a:rPr b="0" lang="en-CA" sz="4800" spc="-1" strike="noStrike">
                <a:solidFill>
                  <a:srgbClr val="dbbd71"/>
                </a:solidFill>
                <a:latin typeface="Arial"/>
              </a:rPr>
              <a:t>Calculating with Significant Figures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2.5 Part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ZuVPkBb-z2I&amp;feature=chan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ules for </a:t>
            </a: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Calculating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ith Significant Figur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6" name="" descr="Multiplication Sign"/>
          <p:cNvPicPr/>
          <p:nvPr/>
        </p:nvPicPr>
        <p:blipFill>
          <a:blip r:embed="rId1"/>
          <a:stretch/>
        </p:blipFill>
        <p:spPr>
          <a:xfrm>
            <a:off x="914400" y="2819520"/>
            <a:ext cx="2590920" cy="2369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57800" y="2895480"/>
            <a:ext cx="2260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ere the Heck to Roun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kB2szfcwu1A&amp;feature=chann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Part 2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learn the number of digits which can be claimed when reporting results and carrying out calculations with the resul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WHAT IF YOU HAVE MIXED CALCUALTIONS??  What is the order of operation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500" spc="-1" strike="noStrike">
                <a:solidFill>
                  <a:srgbClr val="ff0000"/>
                </a:solidFill>
                <a:latin typeface="Tahoma"/>
              </a:rPr>
              <a:t>BEDMAS</a:t>
            </a:r>
            <a:endParaRPr b="0" lang="en-US" sz="16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See SWB page 40 for an 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What is the important message at the bottom of SWB page 38?!!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dbbd71"/>
                </a:solidFill>
                <a:uFillTx/>
                <a:latin typeface="Arial"/>
              </a:rPr>
              <a:t>Rounding Rules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at the number behind the one you’re round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 is 0 to 4 don’t chang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 is 5 to 9 make it one big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nd 45.462 to four sig fi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hree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wo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one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402240" y="388620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.4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3960" y="44197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5360" y="5029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11320" y="5486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Round the following to 3 significant figur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1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6.7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.0012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78.4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 000.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.000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5.5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0" y="685800"/>
          <a:ext cx="9144000" cy="42609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05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#42 page 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Exercise #55 page 37, # 56 page 39 (yes… all of them!!) and #57 and #58 page 40 (okay, now only do the odd letters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Exercise # 59 page 40 (yes… do ALL of them again please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1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SIG FIG Ru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333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3352680"/>
            <a:ext cx="9144000" cy="35053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50:18Z</dcterms:modified>
  <cp:revision>81</cp:revision>
  <dc:subject/>
  <dc:title>Unit 2: Introduction to Chemistry</dc:title>
</cp:coreProperties>
</file>