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4DF-1618-4F2D-9C82-B01F8CE4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E96-7FD9-4183-9C0E-F51220C1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305-8C72-411B-8A69-1C1722CC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BD4-A965-4BA7-A8A9-2F6F6EFB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DE6C-900A-4C22-9602-DC9BCBA1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3B4A-2479-4C1C-A072-46D52031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238E-4502-4E7C-8166-74454377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2C14-5F8F-4003-B13A-E1A41B42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99E2-EDC5-43E1-94EC-59B324E5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3C68-DD94-428E-850F-1446BA72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CB88-8462-4E2A-8452-60F1FD8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EAE-0D3A-4A1B-B54E-547901D5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5ED4-EE93-454D-A695-2146B22B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44BF-B1C6-4A1B-A2A9-EA7F14CA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A0D7-C29C-401E-87F3-D605A3D1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CF21-D110-4C45-BA85-C22C4FAB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7292-CE18-4EF4-9D68-FFB74E7A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325-ADF9-428F-9CC8-F59B269C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0C3-07EC-4F19-AF68-0D097860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24A-24DB-4986-B975-EF47F1D7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653-D9E8-4782-A9AB-C445722E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90C-7367-41C0-AE3D-5144CFB4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E49-7D0C-448F-8170-B7F4A590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50C-6609-47D3-87F6-E6638A11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C5E-8BC9-49FC-87D3-4A3E7F1452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8B90-7FC9-427D-B472-A2004F5CF8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uVPkBb-z2I&amp;feature=channe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szfcwu1A&amp;feature=channe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ounting Significant Figures and </a:t>
            </a:r>
            <a:br>
              <a:rPr sz="4800"/>
            </a:br>
            <a:r>
              <a:rPr b="0" lang="en-CA" sz="4800" spc="-1" strike="noStrike">
                <a:solidFill>
                  <a:srgbClr val="dbbd71"/>
                </a:solidFill>
                <a:latin typeface="Arial"/>
              </a:rPr>
              <a:t>Calculating with Significant Figures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2.5 Part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uVPkBb-z2I&amp;feature=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ules for </a:t>
            </a: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Calculating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ith Significant Figur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6" name="" descr="Multiplication Sign"/>
          <p:cNvPicPr/>
          <p:nvPr/>
        </p:nvPicPr>
        <p:blipFill>
          <a:blip r:embed="rId1"/>
          <a:stretch/>
        </p:blipFill>
        <p:spPr>
          <a:xfrm>
            <a:off x="914400" y="281952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260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re the Heck to Roun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kB2szfcwu1A&amp;feature=cha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bbd71"/>
                </a:solidFill>
                <a:latin typeface="Arial"/>
              </a:rPr>
              <a:t>2.5 Part 2 Learning Outcom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o learn the number of digits which can be claimed when reporting results and carrying out calculations with the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WHAT IF YOU HAVE MIXED CALCUALTIONS??  What is the order of operation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500" spc="-1" strike="noStrike">
                <a:solidFill>
                  <a:srgbClr val="ff0000"/>
                </a:solidFill>
                <a:latin typeface="Tahoma"/>
              </a:rPr>
              <a:t>BEDMAS</a:t>
            </a:r>
            <a:endParaRPr b="0" lang="en-US" sz="16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ee SWB page 40 for an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hat is the important message at the bottom of SWB page 38?!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dbbd71"/>
                </a:solidFill>
                <a:uFillTx/>
                <a:latin typeface="Arial"/>
              </a:rPr>
              <a:t>Rounding Rules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number behind the one you’re ro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0 to 4 don’t chang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5 to 9 make it one big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 45.462 to four sig f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re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wo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ne sig fi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38862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3960" y="4419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5360" y="5029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11320" y="5486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bbd71"/>
                </a:solidFill>
                <a:latin typeface="Arial"/>
              </a:rPr>
              <a:t>Round the following to 3 significant figur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.1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6.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1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78.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 000.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.000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5.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685800"/>
          <a:ext cx="9144000" cy="4260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Rockwell Extra Bold"/>
                          <a:ea typeface="Times New Roman"/>
                        </a:rPr>
                        <a:t>Practice task(s) to learn these new skil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Exercise #42 page 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Exercise #55 page 37, # 56 page 39 (yes… all of them!!) and #57 and #58 page 40 (okay, now only do the odd letter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Exercise # 59 page 40 (yes… do ALL of them again please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C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SIG FIG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4:29:07Z</dcterms:created>
  <dc:creator>owner</dc:creator>
  <dc:description/>
  <dc:language>en-US</dc:language>
  <cp:lastModifiedBy>Mullin Hales Family</cp:lastModifiedBy>
  <dcterms:modified xsi:type="dcterms:W3CDTF">2010-10-12T04:50:18Z</dcterms:modified>
  <cp:revision>81</cp:revision>
  <dc:subject/>
  <dc:title>Unit 2: Introduction to Chemistry</dc:title>
</cp:coreProperties>
</file>