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1BC4-F2BB-4EB7-9473-CE81B65AD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FF36-83AA-45B5-8178-A50ECA0A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9393-829A-450D-A40F-69981AD4D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D719-0480-4CBD-AB1F-0E3B2FEA0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9F2EA-459F-44AF-962A-DD9C49852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E665-1E34-4D44-9264-D9D50EBC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6DF6-4F1D-439D-BD8C-533B48F9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109F-D8B9-4942-AB1E-97D96823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5FB9-1742-4DC4-9D0B-C9B250BA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F660-52E0-4FA8-B54B-4E27C1F6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44F7-4FE7-4518-A95D-F9E25BE8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3213-112B-49D9-9D37-77CD3F8F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1F65-B5A6-4585-8B36-9C9FBE00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F54A-7AA2-4F36-8179-7F12C2A8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2DDCC-AB1D-4B94-BC7E-1EEA3C58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25AE-A993-429A-9E56-DCE2CC598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89518-7F75-4592-8D97-7606FC944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B357-62D8-4DA6-AA7A-03B6B1A3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83C1-3D67-47F4-8A4F-4AEDEAAA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3CEF-F003-43A6-911E-C4751D7C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A7E3-1970-43A0-88B1-B36B5875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3A0F-B3C5-436E-8B54-6572F80B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6170-B2BF-438C-AF17-B7A42EC4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7D10-8D42-4A95-9A01-EF7971F3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B579-D5BB-415F-AED1-5A421F16C61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F10B-31C0-4027-8C94-E59CEA2C63E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0/Osmium_1-crop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62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Comic Sans MS"/>
              </a:rPr>
              <a:t>2.4- DENSITY</a:t>
            </a:r>
            <a:r>
              <a:rPr b="0" lang="en-US" sz="3600" spc="-1" strike="noStrike">
                <a:solidFill>
                  <a:srgbClr val="ef9100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ef9100"/>
                </a:solidFill>
                <a:latin typeface="Arial"/>
              </a:rPr>
              <a:t>- an important and useful physical property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533880" y="2057400"/>
            <a:ext cx="1950120" cy="1425600"/>
            <a:chOff x="533880" y="2057400"/>
            <a:chExt cx="1950120" cy="1425600"/>
          </a:xfrm>
        </p:grpSpPr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579240" y="2111400"/>
              <a:ext cx="1904760" cy="1371600"/>
            </a:xfrm>
            <a:prstGeom prst="rect">
              <a:avLst/>
            </a:prstGeom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663300"/>
              </a:outerShdw>
            </a:effectLst>
          </p:spPr>
        </p:pic>
        <p:sp>
          <p:nvSpPr>
            <p:cNvPr id="154" name=""/>
            <p:cNvSpPr/>
            <p:nvPr/>
          </p:nvSpPr>
          <p:spPr>
            <a:xfrm>
              <a:off x="533880" y="2057400"/>
              <a:ext cx="1068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ercu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467640" y="3733920"/>
            <a:ext cx="1917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3.6 g/c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39440" y="5029200"/>
            <a:ext cx="1917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1.5 g/c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6552360" y="3352680"/>
            <a:ext cx="2154960" cy="2882880"/>
            <a:chOff x="6552360" y="3352680"/>
            <a:chExt cx="2154960" cy="2882880"/>
          </a:xfrm>
        </p:grpSpPr>
        <p:pic>
          <p:nvPicPr>
            <p:cNvPr id="158" name="" descr=""/>
            <p:cNvPicPr/>
            <p:nvPr/>
          </p:nvPicPr>
          <p:blipFill>
            <a:blip r:embed="rId2"/>
            <a:stretch/>
          </p:blipFill>
          <p:spPr>
            <a:xfrm>
              <a:off x="6840360" y="3352680"/>
              <a:ext cx="1866960" cy="28828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663300"/>
              </a:outerShdw>
            </a:effectLst>
          </p:spPr>
        </p:pic>
        <p:sp>
          <p:nvSpPr>
            <p:cNvPr id="159" name=""/>
            <p:cNvSpPr/>
            <p:nvPr/>
          </p:nvSpPr>
          <p:spPr>
            <a:xfrm>
              <a:off x="6552360" y="5191200"/>
              <a:ext cx="1299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lumin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944400" y="6342120"/>
            <a:ext cx="1719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7 g/c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048120" y="2895480"/>
            <a:ext cx="2793960" cy="1841400"/>
            <a:chOff x="3048120" y="2895480"/>
            <a:chExt cx="2793960" cy="1841400"/>
          </a:xfrm>
        </p:grpSpPr>
        <p:pic>
          <p:nvPicPr>
            <p:cNvPr id="162" name="" descr=""/>
            <p:cNvPicPr/>
            <p:nvPr/>
          </p:nvPicPr>
          <p:blipFill>
            <a:blip r:embed="rId3"/>
            <a:stretch/>
          </p:blipFill>
          <p:spPr>
            <a:xfrm>
              <a:off x="3048120" y="2895480"/>
              <a:ext cx="2793960" cy="1841400"/>
            </a:xfrm>
            <a:prstGeom prst="rect">
              <a:avLst/>
            </a:prstGeom>
            <a:ln w="12600">
              <a:solidFill>
                <a:srgbClr val="dbbd71"/>
              </a:solidFill>
              <a:miter/>
            </a:ln>
            <a:effectLst>
              <a:outerShdw dist="71785" dir="2700000" blurRad="0" rotWithShape="0">
                <a:srgbClr val="663300"/>
              </a:outerShdw>
            </a:effectLst>
          </p:spPr>
        </p:pic>
        <p:sp>
          <p:nvSpPr>
            <p:cNvPr id="163" name=""/>
            <p:cNvSpPr/>
            <p:nvPr/>
          </p:nvSpPr>
          <p:spPr>
            <a:xfrm>
              <a:off x="3296520" y="3047760"/>
              <a:ext cx="114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latin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609480" y="1523880"/>
            <a:ext cx="1752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Merc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05320" y="220968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platin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alculating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iece of wood has a density of 0.93 g/mL and a mass of 23 g what is the volum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 = # 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= 0.93 g/mL and 23 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: Volume = mass/Den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 mL =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23 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.93 g/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 25 m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781680" y="25146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9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nsity as a conversion facto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uminum has a density of 2.70 g/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mass of 25 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 aluminum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4039920" y="449568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60640" y="5105520"/>
            <a:ext cx="85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895480" y="4343400"/>
            <a:ext cx="1828800" cy="1447920"/>
            <a:chOff x="2895480" y="4343400"/>
            <a:chExt cx="1828800" cy="1447920"/>
          </a:xfrm>
        </p:grpSpPr>
        <p:sp>
          <p:nvSpPr>
            <p:cNvPr id="204" name=""/>
            <p:cNvSpPr/>
            <p:nvPr/>
          </p:nvSpPr>
          <p:spPr>
            <a:xfrm>
              <a:off x="3090960" y="5059440"/>
              <a:ext cx="1447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895480" y="4343400"/>
              <a:ext cx="304920" cy="1447920"/>
            </a:xfrm>
            <a:custGeom>
              <a:avLst/>
              <a:gdLst>
                <a:gd name="textAreaLeft" fmla="*/ 89640 w 304920"/>
                <a:gd name="textAreaRight" fmla="*/ 305280 w 304920"/>
                <a:gd name="textAreaTop" fmla="*/ 167400 h 1447920"/>
                <a:gd name="textAreaBottom" fmla="*/ 128052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499"/>
                    <a:pt x="0" y="4997"/>
                  </a:cubicBezTo>
                  <a:lnTo>
                    <a:pt x="0" y="16603"/>
                  </a:lnTo>
                  <a:cubicBezTo>
                    <a:pt x="0" y="19102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4419720" y="4343400"/>
              <a:ext cx="304560" cy="1447920"/>
            </a:xfrm>
            <a:custGeom>
              <a:avLst/>
              <a:gdLst>
                <a:gd name="textAreaLeft" fmla="*/ 89640 w 304560"/>
                <a:gd name="textAreaRight" fmla="*/ 304920 w 304560"/>
                <a:gd name="textAreaTop" fmla="*/ 167400 h 1447920"/>
                <a:gd name="textAreaBottom" fmla="*/ 128052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499"/>
                    <a:pt x="0" y="4997"/>
                  </a:cubicBezTo>
                  <a:lnTo>
                    <a:pt x="0" y="16603"/>
                  </a:lnTo>
                  <a:cubicBezTo>
                    <a:pt x="0" y="19102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923760" y="4419720"/>
            <a:ext cx="141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5 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44956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7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5105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029200" y="47242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68 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523880" y="4571640"/>
            <a:ext cx="609840" cy="304920"/>
          </a:xfrm>
          <a:prstGeom prst="line">
            <a:avLst/>
          </a:prstGeom>
          <a:ln w="57240">
            <a:solidFill>
              <a:srgbClr val="dbbd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038480" y="5257440"/>
            <a:ext cx="609840" cy="304920"/>
          </a:xfrm>
          <a:prstGeom prst="line">
            <a:avLst/>
          </a:prstGeom>
          <a:ln w="57240">
            <a:solidFill>
              <a:srgbClr val="dbbd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4572000"/>
            <a:ext cx="47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Density is often used as a CF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See SWB for all the example questions…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The most dense element is…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4266720"/>
            <a:ext cx="8229600" cy="18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Osmium, coming in at …..22.61 g / cm</a:t>
            </a:r>
            <a:r>
              <a:rPr b="0" lang="en-CA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File:Osmium 1-cro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1523880"/>
            <a:ext cx="275292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And the least dense…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419360" y="159984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Helium…..measuring in at 0.08988 g/L at ST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162560" cy="5335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dbbd7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f9100"/>
                </a:solidFill>
                <a:latin typeface="Comic Sans MS"/>
              </a:rPr>
              <a:t>DENSITY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952880" y="2209680"/>
            <a:ext cx="3721320" cy="4184640"/>
            <a:chOff x="4952880" y="2209680"/>
            <a:chExt cx="3721320" cy="4184640"/>
          </a:xfrm>
        </p:grpSpPr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4952880" y="2209680"/>
              <a:ext cx="3721320" cy="2362320"/>
            </a:xfrm>
            <a:prstGeom prst="rect">
              <a:avLst/>
            </a:prstGeom>
            <a:ln w="12600">
              <a:solidFill>
                <a:srgbClr val="ffffff"/>
              </a:solidFill>
              <a:miter/>
            </a:ln>
          </p:spPr>
        </p:pic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5226120" y="4756320"/>
              <a:ext cx="3416040" cy="16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 flipV="1">
              <a:off x="6159600" y="2819160"/>
              <a:ext cx="177480" cy="25146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7581960" y="2819160"/>
              <a:ext cx="457200" cy="25146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724280" y="1752480"/>
            <a:ext cx="1995480" cy="51552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yrofo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1693800"/>
            <a:ext cx="1071360" cy="515520"/>
          </a:xfrm>
          <a:prstGeom prst="rect">
            <a:avLst/>
          </a:prstGeom>
          <a:solidFill>
            <a:srgbClr val="ffa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i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Which is heavi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It depends 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how tightly packed your particles are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Tahoma"/>
              </a:rPr>
              <a:t>The more tightly packed = more den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ndependent of how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uch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of it you ha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1 g or 100 g you will still have the same Density!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Cool……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9966"/>
                </a:solidFill>
                <a:latin typeface="Tahoma"/>
              </a:rPr>
              <a:t>Example: A cubic inch of Styrofoam weighs less and has less material within it than a cubic inch of lea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99ccff"/>
                </a:solidFill>
                <a:latin typeface="Tahoma"/>
              </a:rPr>
              <a:t>Both take up the same # of space in this world but the lead is much heavier thusly more den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ccff66"/>
                </a:solidFill>
                <a:latin typeface="Tahoma"/>
              </a:rPr>
              <a:t>Scientists hypothesize (educated guess without proof) that some stars have </a:t>
            </a:r>
            <a:r>
              <a:rPr b="0" i="1" lang="en-CA" sz="3200" spc="-1" strike="noStrike" u="sng">
                <a:solidFill>
                  <a:srgbClr val="ccff66"/>
                </a:solidFill>
                <a:uFillTx/>
                <a:latin typeface="Tahoma"/>
              </a:rPr>
              <a:t>such a great density</a:t>
            </a:r>
            <a:r>
              <a:rPr b="0" i="1" lang="en-CA" sz="3200" spc="-1" strike="noStrike">
                <a:solidFill>
                  <a:srgbClr val="ccff66"/>
                </a:solidFill>
                <a:latin typeface="Tahoma"/>
              </a:rPr>
              <a:t> that a teaspoon full of their matter (the material that makes them what they are) weighs more than the </a:t>
            </a:r>
            <a:r>
              <a:rPr b="0" i="1" lang="en-CA" sz="3200" spc="-1" strike="noStrike" u="sng">
                <a:solidFill>
                  <a:srgbClr val="ccff66"/>
                </a:solidFill>
                <a:uFillTx/>
                <a:latin typeface="Tahoma"/>
              </a:rPr>
              <a:t>entire planet Earth!</a:t>
            </a:r>
            <a:r>
              <a:rPr b="0" lang="en-CA" sz="3200" spc="-1" strike="noStrike">
                <a:solidFill>
                  <a:srgbClr val="ccff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7848720" y="762120"/>
            <a:ext cx="914400" cy="685800"/>
          </a:xfrm>
          <a:prstGeom prst="sun">
            <a:avLst>
              <a:gd name="adj" fmla="val 25000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90642 -0.15861 C -0.83402 -0.07422 -0.76145 0.01018 -0.68263 0.01249 C -0.60399 0.01503 -0.51024 -0.14728 -0.43333 -0.14404 C -0.35642 -0.14081 -0.28506 0.03168 -0.22083 0.03168 C -0.15642 0.03122 -0.08454 -0.14081 -0.04774 -0.14589 C -0.01093 -0.15144 -0.00555 -0.0756 7.22222E-006 2.13873E-006 E">
                                      <p:cBhvr>
                                        <p:cTn id="13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nsit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atio of mass to volume for a substa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 = M / 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743200" y="2514600"/>
            <a:ext cx="3429000" cy="2362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37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2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Density Ques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A piece of wood has a mass of 11.2 g and a volume of 23 mL what is the density?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= den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= 11.2 g and 23 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: D =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 Denisty =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1.2 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3 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2448000" y="5105520"/>
            <a:ext cx="242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 0.49 g/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04:29:07Z</dcterms:created>
  <dc:creator>owner</dc:creator>
  <dc:description/>
  <dc:language>en-US</dc:language>
  <cp:lastModifiedBy>Mullin Hales Family</cp:lastModifiedBy>
  <dcterms:modified xsi:type="dcterms:W3CDTF">2010-10-12T04:39:42Z</dcterms:modified>
  <cp:revision>93</cp:revision>
  <dc:subject/>
  <dc:title>Unit 2: Introduction to Chemistry</dc:title>
</cp:coreProperties>
</file>