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215-2AA0-44AD-B7C2-D3EB15BC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156-DE23-49FE-B67D-D9F9F399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014-B769-437A-A316-EC6F1CDF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313-9A5A-42DB-B704-0113AE31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F35F-0E9E-4DAC-9CEE-5B1F3DD0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F95D-F63F-438A-AA19-EF24A3FF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3C65-79D2-4BFE-B8E3-65649F14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9ED-31FF-4569-9580-0506F434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EDBD-5D6B-475D-9801-DEF8FB39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6D6B-A6BF-4A8A-B6D4-52CA8263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B602-9354-4E4B-9E49-63C6C0A1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53D-D1F1-4E4E-82BB-A188E4AA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283A-5024-4FB9-813D-E6764936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4ECA-9752-467F-BEF7-B089200B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5755-E04B-436C-9A7D-CB0BE778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2523-5DC4-478C-AC60-1622EE68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C8E4-B8FC-4F8E-A39D-18786F7A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B77-58BC-47BD-A4D0-7DA2C3F1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709-0BCA-4380-8A32-F67AB9C8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B13-6DC0-435A-BB0E-977F60C4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02D-52A4-4D6B-AF23-3CFA6E0C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9AF-6EC5-4F34-8DA3-4143284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9F8-A0E5-495B-936E-C08BEB5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39F-3B8B-4158-ADBF-97A7470A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356A-3F0C-4756-AC78-3F90EC0C85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997F-8291-460E-A6BF-FDEA5CBE84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Osmium_1-cro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omic Sans MS"/>
              </a:rPr>
              <a:t>2.4- DENSITY</a:t>
            </a: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f9100"/>
                </a:solidFill>
                <a:latin typeface="Arial"/>
              </a:rPr>
              <a:t>- an important and useful physical propert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880" y="2057400"/>
            <a:ext cx="1950120" cy="1425600"/>
            <a:chOff x="533880" y="2057400"/>
            <a:chExt cx="1950120" cy="14256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79240" y="2111400"/>
              <a:ext cx="1904760" cy="1371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4" name=""/>
            <p:cNvSpPr/>
            <p:nvPr/>
          </p:nvSpPr>
          <p:spPr>
            <a:xfrm>
              <a:off x="533880" y="20574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rcu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7640" y="373392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6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9440" y="5029200"/>
            <a:ext cx="191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.5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52360" y="3352680"/>
            <a:ext cx="2154960" cy="2882880"/>
            <a:chOff x="6552360" y="3352680"/>
            <a:chExt cx="2154960" cy="28828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840360" y="3352680"/>
              <a:ext cx="1866960" cy="2882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</p:pic>
        <p:sp>
          <p:nvSpPr>
            <p:cNvPr id="159" name=""/>
            <p:cNvSpPr/>
            <p:nvPr/>
          </p:nvSpPr>
          <p:spPr>
            <a:xfrm>
              <a:off x="6552360" y="5191200"/>
              <a:ext cx="129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um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44400" y="6342120"/>
            <a:ext cx="171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 g/c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8120" y="2895480"/>
            <a:ext cx="2793960" cy="1841400"/>
            <a:chOff x="3048120" y="2895480"/>
            <a:chExt cx="2793960" cy="184140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3048120" y="2895480"/>
              <a:ext cx="2793960" cy="1841400"/>
            </a:xfrm>
            <a:prstGeom prst="rect">
              <a:avLst/>
            </a:prstGeom>
            <a:ln w="12600">
              <a:solidFill>
                <a:srgbClr val="dbbd71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</p:pic>
        <p:sp>
          <p:nvSpPr>
            <p:cNvPr id="163" name=""/>
            <p:cNvSpPr/>
            <p:nvPr/>
          </p:nvSpPr>
          <p:spPr>
            <a:xfrm>
              <a:off x="3296520" y="304776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t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1523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2096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lculat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ece of wood has a density of 0.93 g/mL and a mass of 23 g what is the volu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= #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0.93 g/mL and 2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Volume = mass/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m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3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93 g/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25 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0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 as a conversion fact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minum has a density of 2.70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ass of 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luminu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44956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0640" y="510552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480" y="4343400"/>
            <a:ext cx="1828800" cy="1447920"/>
            <a:chOff x="2895480" y="4343400"/>
            <a:chExt cx="1828800" cy="1447920"/>
          </a:xfrm>
        </p:grpSpPr>
        <p:sp>
          <p:nvSpPr>
            <p:cNvPr id="204" name=""/>
            <p:cNvSpPr/>
            <p:nvPr/>
          </p:nvSpPr>
          <p:spPr>
            <a:xfrm>
              <a:off x="3090960" y="5059440"/>
              <a:ext cx="144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4343400"/>
              <a:ext cx="304920" cy="14479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343400"/>
              <a:ext cx="304560" cy="144792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67400 h 1447920"/>
                <a:gd name="textAreaBottom" fmla="*/ 12805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499"/>
                    <a:pt x="0" y="4997"/>
                  </a:cubicBezTo>
                  <a:lnTo>
                    <a:pt x="0" y="16603"/>
                  </a:lnTo>
                  <a:cubicBezTo>
                    <a:pt x="0" y="19102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23760" y="441972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495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724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68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45716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257440"/>
            <a:ext cx="609840" cy="304920"/>
          </a:xfrm>
          <a:prstGeom prst="line">
            <a:avLst/>
          </a:prstGeom>
          <a:ln w="5724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is often used as a CF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ee SWB for all the example 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The most dense element i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smium, coming in at …..22.61 g / cm</a:t>
            </a:r>
            <a:r>
              <a:rPr b="0" lang="en-CA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File:Osmium 1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523880"/>
            <a:ext cx="275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And the least dense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elium…..measuring in at 0.08988 g/L at S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533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dbbd7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52880" y="2209680"/>
            <a:ext cx="3721320" cy="4184640"/>
            <a:chOff x="4952880" y="2209680"/>
            <a:chExt cx="3721320" cy="418464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952880" y="2209680"/>
              <a:ext cx="3721320" cy="2362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226120" y="4756320"/>
              <a:ext cx="341604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6159600" y="2819160"/>
              <a:ext cx="17748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581960" y="2819160"/>
              <a:ext cx="457200" cy="2514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24280" y="1752480"/>
            <a:ext cx="19954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693800"/>
            <a:ext cx="1071360" cy="51552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Which is heav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t depends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ow tightly packed your particles a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ahoma"/>
              </a:rPr>
              <a:t>The more tightly packed = more d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dependent of how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c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of it you 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 g or 100 g you will still have the same Density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Cool…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66"/>
                </a:solidFill>
                <a:latin typeface="Tahoma"/>
              </a:rPr>
              <a:t>Example: A cubic inch of Styrofoam weighs less and has less material within it than a cubic inch of l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ccff"/>
                </a:solidFill>
                <a:latin typeface="Tahoma"/>
              </a:rPr>
              <a:t>Both take up the same # of space in this world but the lead is much heavier thusly more d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Scientists hypothesize (educated guess without proof) that some stars hav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such a great density</a:t>
            </a:r>
            <a:r>
              <a:rPr b="0" i="1" lang="en-CA" sz="3200" spc="-1" strike="noStrike">
                <a:solidFill>
                  <a:srgbClr val="ccff66"/>
                </a:solidFill>
                <a:latin typeface="Tahoma"/>
              </a:rPr>
              <a:t> that a teaspoon full of their matter (the material that makes them what they are) weighs more than the </a:t>
            </a:r>
            <a:r>
              <a:rPr b="0" i="1" lang="en-CA" sz="3200" spc="-1" strike="noStrike" u="sng">
                <a:solidFill>
                  <a:srgbClr val="ccff66"/>
                </a:solidFill>
                <a:uFillTx/>
                <a:latin typeface="Tahoma"/>
              </a:rPr>
              <a:t>entire planet Earth!</a:t>
            </a:r>
            <a:r>
              <a:rPr b="0" lang="en-CA" sz="3200" spc="-1" strike="noStrike">
                <a:solidFill>
                  <a:srgbClr val="ccff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762120"/>
            <a:ext cx="914400" cy="68580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0642 -0.15861 C -0.83402 -0.07422 -0.76145 0.01018 -0.68263 0.01249 C -0.60399 0.01503 -0.51024 -0.14728 -0.43333 -0.14404 C -0.35642 -0.14081 -0.28506 0.03168 -0.22083 0.03168 C -0.15642 0.03122 -0.08454 -0.14081 -0.04774 -0.14589 C -0.01093 -0.15144 -0.00555 -0.0756 7.22222E-006 2.13873E-006 E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tio of mass to volume for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Densit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 piece of wood has a mass of 11.2 g and a volume of 23 mL what is the density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= 11.2 g and 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: D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 Denis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1.2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 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48000" y="51055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.49 g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39:42Z</dcterms:modified>
  <cp:revision>93</cp:revision>
  <dc:subject/>
  <dc:title>Unit 2: Introduction to Chemistry</dc:title>
</cp:coreProperties>
</file>