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C71-3368-4FEF-A118-8BA53FA3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DE-02A5-481D-8ED2-D5C860B2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3CF-CB40-4737-82B0-71208879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F07-FDF4-4B9B-A6F0-7B6B972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2164-B93C-486A-B5CE-25552CAF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202C-6795-4969-9275-E74ADAB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1961-8330-4CF3-A49F-B3A8BA48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FED-7708-4917-B617-9C4FEAB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513-2756-4B5B-8183-9580DFA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B1E-0A3D-4D18-A2F9-98C5F802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268-DC8F-4EA7-AB42-3DB4DAA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001-099E-47C9-A86C-E137BA6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41F-6AF2-4DAD-B277-4E1E30A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370-076B-485B-9591-22AB902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A5A0-2BF6-4D3F-8D14-760B251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287-41B9-4D79-8A4B-97063CB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50FA-FE83-4437-841E-F880B405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5D3-7283-4B7F-AC5A-CA1D1062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53F-EE3C-44C7-B7DF-F35A2E6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9A7-D9F6-4ADB-9CBC-66687A4C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1E1-5F53-46D0-B2AA-F7ADC184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139-642F-4EED-B544-9EA25C9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2BC-0A32-4F0C-BEA4-5629E6C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B38-57DE-46D2-B9A0-10CBD0D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7AC-1FBB-4113-89B0-D017CA19B5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8BC7-2017-44CB-A89F-69715AC046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Lesson</a:t>
            </a:r>
            <a:br>
              <a:rPr sz="5400"/>
            </a:br>
            <a:r>
              <a:rPr b="0" lang="en-CA" sz="5400" spc="-1" strike="noStrike">
                <a:solidFill>
                  <a:srgbClr val="dbbd71"/>
                </a:solidFill>
                <a:latin typeface="Arial"/>
              </a:rPr>
              <a:t>2.2 and 2.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ffffff"/>
                </a:solidFill>
                <a:latin typeface="Tahoma"/>
              </a:rPr>
              <a:t>(pages 16-23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: c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C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# um    =   5 cm x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1 x 10</a:t>
            </a:r>
            <a:r>
              <a:rPr b="0" lang="en-CA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x   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1 u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1 cm       1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 5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2. For every METRIC conversion use the following steps: U = I x CF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dentify the U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Identify the I and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8a500"/>
                </a:solidFill>
                <a:latin typeface="Tahoma"/>
              </a:rPr>
              <a:t>Identify all the CF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Sol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ccff"/>
                </a:solidFill>
                <a:latin typeface="Tahoma"/>
              </a:rPr>
              <a:t>For every metric conversion you must first </a:t>
            </a:r>
            <a:r>
              <a:rPr b="1" lang="en-CA" sz="2400" spc="-1" strike="noStrike" u="sng">
                <a:solidFill>
                  <a:srgbClr val="ccccff"/>
                </a:solidFill>
                <a:uFillTx/>
                <a:latin typeface="Tahoma"/>
              </a:rPr>
              <a:t>convert into the base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In the CF,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prefix will always get the “1”</a:t>
            </a: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 and the </a:t>
            </a:r>
            <a:r>
              <a:rPr b="1" lang="en-CA" sz="2400" spc="-1" strike="noStrike" u="sng">
                <a:solidFill>
                  <a:srgbClr val="ff0000"/>
                </a:solidFill>
                <a:uFillTx/>
                <a:latin typeface="Tahoma"/>
              </a:rPr>
              <a:t>base will always get the exponential equivale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cff66"/>
                </a:solidFill>
                <a:latin typeface="Tahoma"/>
              </a:rPr>
              <a:t>When you have a question that requires more than one CF… make a pla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49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t out your data booklet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560" y="3208320"/>
            <a:ext cx="685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2114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5640" y="36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5640" y="293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60640" y="520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4760" y="2967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8160" y="20210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89560" y="4971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4760" y="438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4760" y="367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5640" y="4349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1360" y="2495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4160" y="3794040"/>
            <a:ext cx="1943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68640" y="4028760"/>
            <a:ext cx="1942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1000" y="4264200"/>
            <a:ext cx="171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3240" y="2381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97000" y="320832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797000" y="3794040"/>
            <a:ext cx="20574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97000" y="4028760"/>
            <a:ext cx="20574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82880" y="4264200"/>
            <a:ext cx="1600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1480" y="5335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The Metric Spid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16080" y="3243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1640" y="22096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 Un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3716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37160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 Prefi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1304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4720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90960" y="1938240"/>
            <a:ext cx="1108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828800"/>
            <a:ext cx="1608120" cy="3768840"/>
          </a:xfrm>
          <a:prstGeom prst="ellipse">
            <a:avLst/>
          </a:prstGeom>
          <a:noFill/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89160" y="36036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49920" y="54180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5520" y="47160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2040" y="14270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72440" y="460044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4880" y="142884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040" y="432432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80" y="2841480"/>
            <a:ext cx="105264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46400" y="540396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26440" y="3048120"/>
            <a:ext cx="1052280" cy="1108080"/>
          </a:xfrm>
          <a:prstGeom prst="ellipse">
            <a:avLst/>
          </a:prstGeom>
          <a:noFill/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2280" y="14698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440" y="29242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4480" y="311796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26440" y="152568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37600" y="46688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34160" y="544680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441972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1920" y="442800"/>
            <a:ext cx="102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410080"/>
            <a:ext cx="119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9920" y="541440"/>
            <a:ext cx="102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9000" y="1301760"/>
            <a:ext cx="830520" cy="74916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2244600"/>
            <a:ext cx="2160720" cy="6368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3490920"/>
            <a:ext cx="1855800" cy="284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35120" y="4378320"/>
            <a:ext cx="2049480" cy="63648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41800" y="5292720"/>
            <a:ext cx="664920" cy="3319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87440" y="5319360"/>
            <a:ext cx="830520" cy="41580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208480" y="4405320"/>
            <a:ext cx="2162160" cy="527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403960" y="3519000"/>
            <a:ext cx="1938240" cy="1112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319360" y="2160720"/>
            <a:ext cx="2050920" cy="50004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14800" y="1357200"/>
            <a:ext cx="720720" cy="693720"/>
          </a:xfrm>
          <a:prstGeom prst="line">
            <a:avLst/>
          </a:prstGeom>
          <a:ln w="114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32767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9112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51055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152388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36232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2004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426708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52578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295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200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648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53341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4864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495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3526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1337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21932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pages 19-21 for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Convert 9.4 nm into me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2 and 2.3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base un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cognize metric pre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create CF by comparing base units to a 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solve simple (1 CF) and complex (2 or more CF) metric conversion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. ONE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9.4 nM into metres (n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 = 9.4 n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9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9.4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EFIXES in the ques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require the use of 2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ways convert to the base unit fir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. TWO STEP METRIC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6.32 um into km (u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km = 6.32 um x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x 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-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x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um          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= 6.32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</a:rPr>
              <a:t>-9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k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F’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k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60 se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       1 min        6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1: Convert the numerator fir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2: Convert the denominator secon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3720" y="16002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028840" y="16765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. DERIVED UNIT CONVER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55.0 km/h into m/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 m/s = 55.0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x10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x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1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60 min     60 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5. 3 m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3526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43400" y="3733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743200" y="38095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32763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67280" y="37339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391520" y="3200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581280"/>
            <a:ext cx="83808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048120"/>
            <a:ext cx="838080" cy="609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Key Vocabulary 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pre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s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tric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erived qua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Metric Prefixe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5800" y="990720"/>
            <a:ext cx="777240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952880" y="6858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927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ss of Earth = 5.9742 ×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kilograms (kg) = 5.9742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Gig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6668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spend 1/3 of our life sleeping, that is 27.37 years, 8.6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seconds or 8.63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megaseconds (863 M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ome more uses of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72428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Sloth’s top speed is 5 m/min = 0.3 km/hr or 5000 mm/min, or 83 mm/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8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0286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2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International System of Units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is the modern form of the metric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ccff66"/>
                </a:solidFill>
                <a:latin typeface="Tahoma"/>
              </a:rPr>
              <a:t>devised around the convenience of the number ten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world's most widely us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ccff"/>
                </a:solidFill>
                <a:latin typeface="Tahoma"/>
              </a:rPr>
              <a:t>Base units: a basic unit of measurement, all other units are multiples of the bas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c66"/>
                </a:solidFill>
                <a:latin typeface="Tahoma"/>
              </a:rPr>
              <a:t>The base units are: Meter-m, gram-g (kg is the actual SI unit… but in Chemistry we use the gram), second- s, mole- mol, litre- L, tonne-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Prefixes are multiples of base units (see SWB for all prefixes)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676520"/>
                <a:gridCol w="1295280"/>
                <a:gridCol w="1524240"/>
                <a:gridCol w="152388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Written 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fix 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nit symb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xponential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CA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logr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crogra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0" lang="en-CA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dbbd71"/>
                </a:solidFill>
                <a:uFillTx/>
                <a:latin typeface="Arial"/>
              </a:rPr>
              <a:t>2.3 Summery Notes</a:t>
            </a: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 Sample Question: How many micrometers are there in 5 c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7:21Z</dcterms:modified>
  <cp:revision>106</cp:revision>
  <dc:subject/>
  <dc:title>Unit 2: Introduction to Chemistry</dc:title>
</cp:coreProperties>
</file>