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664-D29B-48FD-81C4-E85847CF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CA2-1718-4842-9B52-10A4A028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C2E-FC3F-4AC0-9CC3-9734B419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7C1-2DA9-40DA-98F0-5FA38837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19E9-437B-4AA7-BD2F-FCB2E3C8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545C-6087-436A-9073-F4A7F5D6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C9D3-EC02-4F1A-AB46-DEEA5FB6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AA66-5A72-43E9-A812-8F9B7C7D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8DC4-D2F5-4DAB-BEF8-73392212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8521-DB18-4820-9641-A682008A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35B0-DE0A-466B-8EC2-E0CA53C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61B-46B5-4D2F-9DC8-C4F50661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4277-FD13-4C72-9F31-D25F41C3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BAB2-7E36-4634-BE8E-6F15CAC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B0D1-92AF-4EBD-BAC9-2A7AEF85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9151-E030-4138-9C1A-3B592DF9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5D01-FF89-4DB5-B61F-FB8F29CC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44E-671D-426A-861A-4C8C838E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2AB-FCC1-4514-9452-7076E267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0B3-8364-4897-902F-DA570C12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0B7-FA6F-4974-B5A6-F5A5DA08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E06-1B1E-4BDC-9F52-49CD9B48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850-69A1-441D-867F-5971560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77B-5CD2-4F56-9758-8796A3C2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F92B-3BED-457A-B571-15A1E12983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D62F-F2B3-446E-A08B-82ED7612DC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Reading Measurements and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Experimental Uncertainty </a:t>
            </a:r>
            <a:br>
              <a:rPr sz="4400"/>
            </a:b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(Part 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2480" y="2286000"/>
            <a:ext cx="8080560" cy="3460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3657600" y="1219320"/>
            <a:ext cx="129528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295280"/>
            <a:ext cx="1447920" cy="297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Sig Fi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38862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04812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Cambria"/>
              </a:rPr>
              <a:t>Uncertainty</a:t>
            </a:r>
            <a:br>
              <a:rPr sz="80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(not just a feeling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We would write this as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ahoma"/>
              </a:rPr>
              <a:t>42.6 +/- 0.1 m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905120"/>
          <a:ext cx="914400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 flipV="1">
            <a:off x="4191120" y="3733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umber would this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Exampl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82200" cy="1738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38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2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 flipV="1">
            <a:off x="3657240" y="49525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certainty in Measuremen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uncertainty is always in 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st digi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the one that was estima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can be expressed as part of th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42.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0.1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293840" cy="2081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6668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= 42.6 to 42.8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1917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304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 that a measured temperature is 39.6ºC and the uncertainty is ± 0.1ºC. We write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3581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NGE for the above measurement i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.5 – 39.7º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609480"/>
          <a:ext cx="9144000" cy="5305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43-47 page 29 (Accurate and precise, certain digits and measurement/counting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48 page 32, #49 page 33 and #50 page 34 (practice reading scale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1 and #52 page 35 and finally Exercise # 53 and 54 page 36</a:t>
                      </a:r>
                      <a:r>
                        <a:rPr b="0" lang="en-CA" sz="3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1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earn how to find and report the uncertainty associated with each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if a measurement is accurate and/or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e certain and uncertain digits in a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termining experimental uncertai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Part 1 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act or Definite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ccu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re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ertain verses uncertain dig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perimental uncertai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dbbd71"/>
                </a:solidFill>
                <a:latin typeface="Arial"/>
              </a:rPr>
              <a:t>2.5 Part 1 Summary Notes (Reading Measurements and Experimental Uncertainty)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 Write the following measurement and its uncertainties in the correct form- a balance gives the measurement of 51.32g with an uncertainty of 0.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51.32 +/- 0.01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Tahoma"/>
              </a:rPr>
              <a:t>Sample Question 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: The correct volume of a metal is 18.72 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several readings of 17.521 would be precise but NOT accu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reading of 18 would be accurate but NOT pre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Summary Note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unting a small # of objects = exact or defin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asuring mass, time, volume, length = measured and are never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l measurements have uncertainty associated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 is a measured or MEANINGFUL digit (see SWB page 27 for examp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Accurate and Precise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ccurate= measure that is close to the correct or accepted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cise= reproducible measurement, more significant digits/more decimal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Comic Sans MS"/>
              </a:rPr>
              <a:t>Can you hit the bull's-ey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they comp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n something be precise but not accurate (or vice versa)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recise, but not accurate there is a systematic error or b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Ex. you get the same wrong answer over and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ccurate but not precise, experimenter is being in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For exampl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ssume the CORRECT measurement of a pencil is 27.3200 cm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805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46:33Z</dcterms:modified>
  <cp:revision>84</cp:revision>
  <dc:subject/>
  <dc:title>Unit 2: Introduction to Chemistry</dc:title>
</cp:coreProperties>
</file>